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ADB-F939-4B93-8BB4-51F67A0C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B00-3F7C-4CA0-8A15-04398B65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168-46C3-4CC3-AED1-D92828DF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711-7A21-41D2-95F6-99C8070D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8A8-4F1B-4CBD-813D-52ED15C7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203-CE56-4A6A-809C-BFF3BD1E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FF0-DA91-4F14-8FFD-EC957E70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E98-ACA7-4F71-9894-076F1371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231-4951-45D4-8BDC-17654FA6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3B4-8594-455E-B8DD-C0A63163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485-0DA0-4DF8-BA51-BB018C19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11E-E00E-4699-B49F-195BD653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2AE5-EF69-4132-8C3D-06BA290C7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ractions to decimals to percents and vice versa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ach as a decima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00200" y="3073320"/>
                <a:ext cx="3715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00200" y="4800600"/>
                <a:ext cx="601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848040" y="421488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10716" y="11708"/>
                </a:moveTo>
                <a:cubicBezTo>
                  <a:pt x="10708" y="11733"/>
                  <a:pt x="10699" y="11757"/>
                  <a:pt x="10691" y="1178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0120" y="2919240"/>
            <a:ext cx="1152720" cy="1117800"/>
          </a:xfrm>
          <a:custGeom>
            <a:avLst/>
            <a:gdLst/>
            <a:ahLst/>
            <a:rect l="l" t="t" r="r" b="b"/>
            <a:pathLst>
              <a:path w="3201" h="3102">
                <a:moveTo>
                  <a:pt x="12030" y="9550"/>
                </a:moveTo>
                <a:cubicBezTo>
                  <a:pt x="12009" y="9675"/>
                  <a:pt x="12008" y="9701"/>
                  <a:pt x="11981" y="9773"/>
                </a:cubicBezTo>
                <a:cubicBezTo>
                  <a:pt x="12113" y="9729"/>
                  <a:pt x="12391" y="9594"/>
                  <a:pt x="12402" y="9847"/>
                </a:cubicBezTo>
                <a:cubicBezTo>
                  <a:pt x="12414" y="10116"/>
                  <a:pt x="12143" y="10076"/>
                  <a:pt x="11981" y="10096"/>
                </a:cubicBezTo>
              </a:path>
              <a:path w="3201" h="3102">
                <a:moveTo>
                  <a:pt x="12105" y="9451"/>
                </a:moveTo>
                <a:cubicBezTo>
                  <a:pt x="12285" y="9397"/>
                  <a:pt x="12468" y="9350"/>
                  <a:pt x="12650" y="9302"/>
                </a:cubicBezTo>
              </a:path>
              <a:path w="3201" h="3102">
                <a:moveTo>
                  <a:pt x="11435" y="10443"/>
                </a:moveTo>
                <a:cubicBezTo>
                  <a:pt x="11555" y="10134"/>
                  <a:pt x="11654" y="9866"/>
                  <a:pt x="11584" y="9525"/>
                </a:cubicBezTo>
                <a:cubicBezTo>
                  <a:pt x="11524" y="9405"/>
                  <a:pt x="11522" y="9378"/>
                  <a:pt x="11460" y="9327"/>
                </a:cubicBezTo>
                <a:cubicBezTo>
                  <a:pt x="11911" y="9127"/>
                  <a:pt x="12477" y="9149"/>
                  <a:pt x="12973" y="9079"/>
                </a:cubicBezTo>
                <a:cubicBezTo>
                  <a:pt x="13272" y="9037"/>
                  <a:pt x="13566" y="8978"/>
                  <a:pt x="13866" y="8954"/>
                </a:cubicBezTo>
              </a:path>
              <a:path w="3201" h="3102">
                <a:moveTo>
                  <a:pt x="11112" y="9500"/>
                </a:moveTo>
                <a:cubicBezTo>
                  <a:pt x="10992" y="9500"/>
                  <a:pt x="10671" y="9613"/>
                  <a:pt x="10666" y="9798"/>
                </a:cubicBezTo>
                <a:cubicBezTo>
                  <a:pt x="10662" y="9964"/>
                  <a:pt x="11034" y="10026"/>
                  <a:pt x="11063" y="10269"/>
                </a:cubicBezTo>
                <a:cubicBezTo>
                  <a:pt x="11005" y="10294"/>
                  <a:pt x="10947" y="10319"/>
                  <a:pt x="10889" y="10344"/>
                </a:cubicBezTo>
                <a:cubicBezTo>
                  <a:pt x="10642" y="10077"/>
                  <a:pt x="11027" y="9963"/>
                  <a:pt x="11088" y="9624"/>
                </a:cubicBezTo>
                <a:cubicBezTo>
                  <a:pt x="11032" y="9540"/>
                  <a:pt x="11003" y="9516"/>
                  <a:pt x="10914" y="9550"/>
                </a:cubicBezTo>
              </a:path>
              <a:path w="3201" h="3102">
                <a:moveTo>
                  <a:pt x="12601" y="9996"/>
                </a:moveTo>
                <a:cubicBezTo>
                  <a:pt x="12601" y="10097"/>
                  <a:pt x="12652" y="10000"/>
                  <a:pt x="12626" y="9947"/>
                </a:cubicBezTo>
              </a:path>
              <a:path w="3201" h="3102">
                <a:moveTo>
                  <a:pt x="12502" y="8905"/>
                </a:moveTo>
                <a:cubicBezTo>
                  <a:pt x="12494" y="8921"/>
                  <a:pt x="12485" y="8938"/>
                  <a:pt x="12477" y="8954"/>
                </a:cubicBezTo>
                <a:cubicBezTo>
                  <a:pt x="12572" y="8891"/>
                  <a:pt x="12483" y="8861"/>
                  <a:pt x="12427" y="8930"/>
                </a:cubicBezTo>
                <a:cubicBezTo>
                  <a:pt x="12427" y="8938"/>
                  <a:pt x="12427" y="8946"/>
                  <a:pt x="12427" y="8954"/>
                </a:cubicBezTo>
              </a:path>
              <a:path w="3201" h="3102">
                <a:moveTo>
                  <a:pt x="13097" y="9227"/>
                </a:moveTo>
                <a:cubicBezTo>
                  <a:pt x="12882" y="9277"/>
                  <a:pt x="12772" y="9488"/>
                  <a:pt x="12799" y="9723"/>
                </a:cubicBezTo>
                <a:cubicBezTo>
                  <a:pt x="12824" y="9781"/>
                  <a:pt x="12849" y="9839"/>
                  <a:pt x="12874" y="9897"/>
                </a:cubicBezTo>
                <a:cubicBezTo>
                  <a:pt x="13016" y="9884"/>
                  <a:pt x="13515" y="9557"/>
                  <a:pt x="13196" y="9327"/>
                </a:cubicBezTo>
                <a:cubicBezTo>
                  <a:pt x="13138" y="9327"/>
                  <a:pt x="13080" y="9327"/>
                  <a:pt x="13022" y="9327"/>
                </a:cubicBezTo>
              </a:path>
              <a:path w="3201" h="3102">
                <a:moveTo>
                  <a:pt x="12799" y="8111"/>
                </a:moveTo>
                <a:cubicBezTo>
                  <a:pt x="12799" y="8293"/>
                  <a:pt x="12712" y="8589"/>
                  <a:pt x="12774" y="8756"/>
                </a:cubicBezTo>
                <a:cubicBezTo>
                  <a:pt x="12799" y="8773"/>
                  <a:pt x="12824" y="8789"/>
                  <a:pt x="12849" y="8806"/>
                </a:cubicBezTo>
                <a:cubicBezTo>
                  <a:pt x="13002" y="8755"/>
                  <a:pt x="13310" y="8647"/>
                  <a:pt x="13171" y="8409"/>
                </a:cubicBezTo>
                <a:cubicBezTo>
                  <a:pt x="13068" y="8232"/>
                  <a:pt x="12973" y="8738"/>
                  <a:pt x="12973" y="8756"/>
                </a:cubicBezTo>
              </a:path>
              <a:path w="3201" h="3102">
                <a:moveTo>
                  <a:pt x="12080" y="10443"/>
                </a:moveTo>
                <a:cubicBezTo>
                  <a:pt x="12056" y="10491"/>
                  <a:pt x="12047" y="10505"/>
                  <a:pt x="12055" y="10542"/>
                </a:cubicBezTo>
                <a:cubicBezTo>
                  <a:pt x="12211" y="10632"/>
                  <a:pt x="12302" y="10564"/>
                  <a:pt x="12452" y="10492"/>
                </a:cubicBezTo>
              </a:path>
              <a:path w="3201" h="3102">
                <a:moveTo>
                  <a:pt x="12402" y="10294"/>
                </a:moveTo>
                <a:cubicBezTo>
                  <a:pt x="12304" y="10482"/>
                  <a:pt x="12267" y="10648"/>
                  <a:pt x="12254" y="10864"/>
                </a:cubicBezTo>
              </a:path>
              <a:path w="3201" h="3102">
                <a:moveTo>
                  <a:pt x="12998" y="10120"/>
                </a:moveTo>
                <a:cubicBezTo>
                  <a:pt x="12912" y="10198"/>
                  <a:pt x="12748" y="10309"/>
                  <a:pt x="12898" y="10368"/>
                </a:cubicBezTo>
                <a:cubicBezTo>
                  <a:pt x="13096" y="10446"/>
                  <a:pt x="13109" y="10409"/>
                  <a:pt x="13072" y="10592"/>
                </a:cubicBezTo>
                <a:cubicBezTo>
                  <a:pt x="12819" y="10717"/>
                  <a:pt x="12969" y="10348"/>
                  <a:pt x="12998" y="10220"/>
                </a:cubicBezTo>
              </a:path>
              <a:path w="3201" h="3102">
                <a:moveTo>
                  <a:pt x="11485" y="10592"/>
                </a:moveTo>
                <a:cubicBezTo>
                  <a:pt x="11574" y="10562"/>
                  <a:pt x="11610" y="10544"/>
                  <a:pt x="11658" y="10492"/>
                </a:cubicBezTo>
              </a:path>
              <a:path w="3201" h="3102">
                <a:moveTo>
                  <a:pt x="11683" y="10964"/>
                </a:moveTo>
                <a:cubicBezTo>
                  <a:pt x="12193" y="10826"/>
                  <a:pt x="12706" y="10711"/>
                  <a:pt x="13221" y="10592"/>
                </a:cubicBezTo>
                <a:cubicBezTo>
                  <a:pt x="13254" y="10584"/>
                  <a:pt x="13287" y="10575"/>
                  <a:pt x="13320" y="10567"/>
                </a:cubicBezTo>
              </a:path>
              <a:path w="3201" h="3102">
                <a:moveTo>
                  <a:pt x="13047" y="10864"/>
                </a:moveTo>
                <a:cubicBezTo>
                  <a:pt x="13071" y="10675"/>
                  <a:pt x="13195" y="10765"/>
                  <a:pt x="13320" y="10815"/>
                </a:cubicBezTo>
                <a:cubicBezTo>
                  <a:pt x="13370" y="10988"/>
                  <a:pt x="13306" y="11305"/>
                  <a:pt x="12998" y="11212"/>
                </a:cubicBezTo>
                <a:cubicBezTo>
                  <a:pt x="12998" y="11187"/>
                  <a:pt x="12998" y="11162"/>
                  <a:pt x="12998" y="11137"/>
                </a:cubicBezTo>
                <a:cubicBezTo>
                  <a:pt x="13148" y="11059"/>
                  <a:pt x="13263" y="10982"/>
                  <a:pt x="13395" y="111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45000" y="2867040"/>
            <a:ext cx="911160" cy="1982880"/>
          </a:xfrm>
          <a:custGeom>
            <a:avLst/>
            <a:gdLst/>
            <a:ahLst/>
            <a:rect l="l" t="t" r="r" b="b"/>
            <a:pathLst>
              <a:path w="2531" h="5508">
                <a:moveTo>
                  <a:pt x="13742" y="9103"/>
                </a:moveTo>
                <a:cubicBezTo>
                  <a:pt x="13542" y="9103"/>
                  <a:pt x="13460" y="9134"/>
                  <a:pt x="13419" y="9376"/>
                </a:cubicBezTo>
                <a:cubicBezTo>
                  <a:pt x="13419" y="9450"/>
                  <a:pt x="13419" y="9525"/>
                  <a:pt x="13419" y="9599"/>
                </a:cubicBezTo>
                <a:cubicBezTo>
                  <a:pt x="13604" y="9663"/>
                  <a:pt x="14092" y="9653"/>
                  <a:pt x="13866" y="9277"/>
                </a:cubicBezTo>
                <a:cubicBezTo>
                  <a:pt x="13739" y="9193"/>
                  <a:pt x="13716" y="9160"/>
                  <a:pt x="13618" y="9178"/>
                </a:cubicBezTo>
              </a:path>
              <a:path w="2531" h="5508">
                <a:moveTo>
                  <a:pt x="13618" y="9748"/>
                </a:moveTo>
                <a:cubicBezTo>
                  <a:pt x="13642" y="9954"/>
                  <a:pt x="13629" y="10139"/>
                  <a:pt x="13618" y="10344"/>
                </a:cubicBezTo>
              </a:path>
              <a:path w="2531" h="5508">
                <a:moveTo>
                  <a:pt x="13543" y="10244"/>
                </a:moveTo>
                <a:cubicBezTo>
                  <a:pt x="13556" y="10330"/>
                  <a:pt x="13577" y="10387"/>
                  <a:pt x="13618" y="10468"/>
                </a:cubicBezTo>
                <a:cubicBezTo>
                  <a:pt x="13688" y="10338"/>
                  <a:pt x="13759" y="10218"/>
                  <a:pt x="13841" y="10096"/>
                </a:cubicBezTo>
              </a:path>
              <a:path w="2531" h="5508">
                <a:moveTo>
                  <a:pt x="13816" y="10542"/>
                </a:moveTo>
                <a:cubicBezTo>
                  <a:pt x="13664" y="10561"/>
                  <a:pt x="13577" y="10719"/>
                  <a:pt x="13543" y="10864"/>
                </a:cubicBezTo>
                <a:cubicBezTo>
                  <a:pt x="13543" y="11010"/>
                  <a:pt x="13541" y="11058"/>
                  <a:pt x="13643" y="11112"/>
                </a:cubicBezTo>
                <a:cubicBezTo>
                  <a:pt x="13800" y="11086"/>
                  <a:pt x="14263" y="10804"/>
                  <a:pt x="13891" y="10641"/>
                </a:cubicBezTo>
                <a:cubicBezTo>
                  <a:pt x="13825" y="10649"/>
                  <a:pt x="13758" y="10658"/>
                  <a:pt x="13692" y="10666"/>
                </a:cubicBezTo>
              </a:path>
              <a:path w="2531" h="5508">
                <a:moveTo>
                  <a:pt x="13519" y="8086"/>
                </a:moveTo>
                <a:cubicBezTo>
                  <a:pt x="13467" y="8138"/>
                  <a:pt x="13450" y="8157"/>
                  <a:pt x="13444" y="8210"/>
                </a:cubicBezTo>
                <a:cubicBezTo>
                  <a:pt x="13491" y="8117"/>
                  <a:pt x="13658" y="7917"/>
                  <a:pt x="13692" y="8186"/>
                </a:cubicBezTo>
                <a:cubicBezTo>
                  <a:pt x="13703" y="8274"/>
                  <a:pt x="13567" y="8824"/>
                  <a:pt x="13395" y="8706"/>
                </a:cubicBezTo>
                <a:cubicBezTo>
                  <a:pt x="13387" y="8681"/>
                  <a:pt x="13378" y="8657"/>
                  <a:pt x="13370" y="8632"/>
                </a:cubicBezTo>
                <a:cubicBezTo>
                  <a:pt x="13515" y="8487"/>
                  <a:pt x="13692" y="8403"/>
                  <a:pt x="13816" y="8657"/>
                </a:cubicBezTo>
                <a:cubicBezTo>
                  <a:pt x="13836" y="8774"/>
                  <a:pt x="13829" y="8796"/>
                  <a:pt x="13866" y="8855"/>
                </a:cubicBezTo>
              </a:path>
              <a:path w="2531" h="5508">
                <a:moveTo>
                  <a:pt x="13370" y="11212"/>
                </a:moveTo>
                <a:cubicBezTo>
                  <a:pt x="13370" y="11394"/>
                  <a:pt x="13351" y="11578"/>
                  <a:pt x="13320" y="11757"/>
                </a:cubicBezTo>
                <a:cubicBezTo>
                  <a:pt x="13312" y="11790"/>
                  <a:pt x="13303" y="11824"/>
                  <a:pt x="13295" y="11857"/>
                </a:cubicBezTo>
              </a:path>
              <a:path w="2531" h="5508">
                <a:moveTo>
                  <a:pt x="13717" y="11286"/>
                </a:moveTo>
                <a:cubicBezTo>
                  <a:pt x="13693" y="11454"/>
                  <a:pt x="13645" y="11552"/>
                  <a:pt x="13717" y="11708"/>
                </a:cubicBezTo>
                <a:cubicBezTo>
                  <a:pt x="13943" y="11708"/>
                  <a:pt x="13990" y="11622"/>
                  <a:pt x="14064" y="11410"/>
                </a:cubicBezTo>
                <a:cubicBezTo>
                  <a:pt x="13864" y="11448"/>
                  <a:pt x="13840" y="11505"/>
                  <a:pt x="13816" y="11708"/>
                </a:cubicBezTo>
              </a:path>
              <a:path w="2531" h="5508">
                <a:moveTo>
                  <a:pt x="12725" y="12005"/>
                </a:moveTo>
                <a:cubicBezTo>
                  <a:pt x="13195" y="11918"/>
                  <a:pt x="13671" y="11852"/>
                  <a:pt x="14139" y="11757"/>
                </a:cubicBezTo>
                <a:cubicBezTo>
                  <a:pt x="14308" y="11723"/>
                  <a:pt x="14492" y="11614"/>
                  <a:pt x="14511" y="11708"/>
                </a:cubicBezTo>
              </a:path>
              <a:path w="2531" h="5508">
                <a:moveTo>
                  <a:pt x="12626" y="11683"/>
                </a:moveTo>
                <a:cubicBezTo>
                  <a:pt x="12735" y="11655"/>
                  <a:pt x="12778" y="11643"/>
                  <a:pt x="12849" y="11609"/>
                </a:cubicBezTo>
              </a:path>
              <a:path w="2531" h="5508">
                <a:moveTo>
                  <a:pt x="14114" y="11857"/>
                </a:moveTo>
                <a:cubicBezTo>
                  <a:pt x="14082" y="11953"/>
                  <a:pt x="13921" y="12137"/>
                  <a:pt x="13990" y="12229"/>
                </a:cubicBezTo>
                <a:cubicBezTo>
                  <a:pt x="14151" y="12202"/>
                  <a:pt x="14212" y="12189"/>
                  <a:pt x="14312" y="12129"/>
                </a:cubicBezTo>
              </a:path>
              <a:path w="2531" h="5508">
                <a:moveTo>
                  <a:pt x="14288" y="11881"/>
                </a:moveTo>
                <a:cubicBezTo>
                  <a:pt x="14249" y="12080"/>
                  <a:pt x="14218" y="12276"/>
                  <a:pt x="14188" y="12477"/>
                </a:cubicBezTo>
              </a:path>
              <a:path w="2531" h="5508">
                <a:moveTo>
                  <a:pt x="13543" y="9054"/>
                </a:moveTo>
                <a:cubicBezTo>
                  <a:pt x="13593" y="9004"/>
                  <a:pt x="13643" y="8966"/>
                  <a:pt x="13717" y="8954"/>
                </a:cubicBezTo>
                <a:cubicBezTo>
                  <a:pt x="13857" y="8932"/>
                  <a:pt x="13998" y="8930"/>
                  <a:pt x="14139" y="8905"/>
                </a:cubicBezTo>
                <a:cubicBezTo>
                  <a:pt x="14305" y="8875"/>
                  <a:pt x="14471" y="8846"/>
                  <a:pt x="14635" y="8806"/>
                </a:cubicBezTo>
                <a:cubicBezTo>
                  <a:pt x="14757" y="8777"/>
                  <a:pt x="14883" y="8723"/>
                  <a:pt x="15007" y="8706"/>
                </a:cubicBezTo>
                <a:cubicBezTo>
                  <a:pt x="15032" y="8706"/>
                  <a:pt x="15056" y="8706"/>
                  <a:pt x="15081" y="8706"/>
                </a:cubicBezTo>
              </a:path>
              <a:path w="2531" h="5508">
                <a:moveTo>
                  <a:pt x="14511" y="9103"/>
                </a:moveTo>
                <a:cubicBezTo>
                  <a:pt x="14423" y="9018"/>
                  <a:pt x="14334" y="9044"/>
                  <a:pt x="14238" y="9128"/>
                </a:cubicBezTo>
                <a:cubicBezTo>
                  <a:pt x="14072" y="9272"/>
                  <a:pt x="14104" y="9364"/>
                  <a:pt x="14163" y="9525"/>
                </a:cubicBezTo>
                <a:cubicBezTo>
                  <a:pt x="14276" y="9492"/>
                  <a:pt x="14813" y="9269"/>
                  <a:pt x="14536" y="9079"/>
                </a:cubicBezTo>
                <a:cubicBezTo>
                  <a:pt x="14486" y="9071"/>
                  <a:pt x="14437" y="9062"/>
                  <a:pt x="14387" y="9054"/>
                </a:cubicBezTo>
              </a:path>
              <a:path w="2531" h="5508">
                <a:moveTo>
                  <a:pt x="14461" y="9599"/>
                </a:moveTo>
                <a:cubicBezTo>
                  <a:pt x="14451" y="9758"/>
                  <a:pt x="14485" y="10150"/>
                  <a:pt x="14511" y="10393"/>
                </a:cubicBezTo>
                <a:cubicBezTo>
                  <a:pt x="14544" y="10703"/>
                  <a:pt x="14481" y="11008"/>
                  <a:pt x="14511" y="11311"/>
                </a:cubicBezTo>
                <a:cubicBezTo>
                  <a:pt x="14533" y="11376"/>
                  <a:pt x="14541" y="11391"/>
                  <a:pt x="14536" y="11435"/>
                </a:cubicBezTo>
              </a:path>
              <a:path w="2531" h="5508">
                <a:moveTo>
                  <a:pt x="14238" y="11063"/>
                </a:moveTo>
                <a:cubicBezTo>
                  <a:pt x="14284" y="11201"/>
                  <a:pt x="14400" y="11335"/>
                  <a:pt x="14511" y="11435"/>
                </a:cubicBezTo>
                <a:cubicBezTo>
                  <a:pt x="14564" y="11462"/>
                  <a:pt x="14584" y="11474"/>
                  <a:pt x="14610" y="11509"/>
                </a:cubicBezTo>
                <a:cubicBezTo>
                  <a:pt x="14670" y="11388"/>
                  <a:pt x="14689" y="11282"/>
                  <a:pt x="14734" y="11162"/>
                </a:cubicBezTo>
              </a:path>
              <a:path w="2531" h="5508">
                <a:moveTo>
                  <a:pt x="14734" y="11807"/>
                </a:moveTo>
                <a:cubicBezTo>
                  <a:pt x="14543" y="11960"/>
                  <a:pt x="14511" y="12108"/>
                  <a:pt x="14511" y="12353"/>
                </a:cubicBezTo>
                <a:cubicBezTo>
                  <a:pt x="14670" y="12346"/>
                  <a:pt x="15048" y="12234"/>
                  <a:pt x="14833" y="11981"/>
                </a:cubicBezTo>
                <a:cubicBezTo>
                  <a:pt x="14800" y="11973"/>
                  <a:pt x="14767" y="11964"/>
                  <a:pt x="14734" y="11956"/>
                </a:cubicBezTo>
              </a:path>
              <a:path w="2531" h="5508">
                <a:moveTo>
                  <a:pt x="14188" y="8012"/>
                </a:moveTo>
                <a:cubicBezTo>
                  <a:pt x="14188" y="7977"/>
                  <a:pt x="14197" y="7964"/>
                  <a:pt x="14238" y="7962"/>
                </a:cubicBezTo>
              </a:path>
              <a:path w="2531" h="5508">
                <a:moveTo>
                  <a:pt x="14139" y="7987"/>
                </a:moveTo>
                <a:cubicBezTo>
                  <a:pt x="14051" y="8035"/>
                  <a:pt x="13993" y="8062"/>
                  <a:pt x="13891" y="8062"/>
                </a:cubicBezTo>
                <a:cubicBezTo>
                  <a:pt x="13919" y="8174"/>
                  <a:pt x="13951" y="8275"/>
                  <a:pt x="13990" y="8384"/>
                </a:cubicBezTo>
                <a:cubicBezTo>
                  <a:pt x="14010" y="8283"/>
                  <a:pt x="14073" y="8212"/>
                  <a:pt x="14188" y="8235"/>
                </a:cubicBezTo>
                <a:cubicBezTo>
                  <a:pt x="14380" y="8274"/>
                  <a:pt x="14459" y="8502"/>
                  <a:pt x="14362" y="8657"/>
                </a:cubicBezTo>
                <a:cubicBezTo>
                  <a:pt x="14233" y="8863"/>
                  <a:pt x="14063" y="8753"/>
                  <a:pt x="13990" y="8607"/>
                </a:cubicBezTo>
              </a:path>
              <a:path w="2531" h="5508">
                <a:moveTo>
                  <a:pt x="14114" y="12477"/>
                </a:moveTo>
                <a:cubicBezTo>
                  <a:pt x="14102" y="12618"/>
                  <a:pt x="14115" y="12655"/>
                  <a:pt x="14039" y="12774"/>
                </a:cubicBezTo>
                <a:cubicBezTo>
                  <a:pt x="14116" y="12621"/>
                  <a:pt x="14197" y="12684"/>
                  <a:pt x="14362" y="12700"/>
                </a:cubicBezTo>
                <a:cubicBezTo>
                  <a:pt x="14379" y="12700"/>
                  <a:pt x="14395" y="12700"/>
                  <a:pt x="14412" y="12700"/>
                </a:cubicBezTo>
              </a:path>
              <a:path w="2531" h="5508">
                <a:moveTo>
                  <a:pt x="14337" y="12477"/>
                </a:moveTo>
                <a:cubicBezTo>
                  <a:pt x="14313" y="12667"/>
                  <a:pt x="14305" y="12724"/>
                  <a:pt x="14312" y="12849"/>
                </a:cubicBezTo>
              </a:path>
              <a:path w="2531" h="5508">
                <a:moveTo>
                  <a:pt x="14610" y="12452"/>
                </a:moveTo>
                <a:cubicBezTo>
                  <a:pt x="14567" y="12623"/>
                  <a:pt x="14546" y="12666"/>
                  <a:pt x="14610" y="12824"/>
                </a:cubicBezTo>
                <a:cubicBezTo>
                  <a:pt x="14846" y="12737"/>
                  <a:pt x="14909" y="12661"/>
                  <a:pt x="14709" y="12502"/>
                </a:cubicBezTo>
              </a:path>
              <a:path w="2531" h="5508">
                <a:moveTo>
                  <a:pt x="13618" y="12750"/>
                </a:moveTo>
                <a:lnTo>
                  <a:pt x="13618" y="12750"/>
                </a:lnTo>
              </a:path>
              <a:path w="2531" h="5508">
                <a:moveTo>
                  <a:pt x="13692" y="13171"/>
                </a:moveTo>
                <a:cubicBezTo>
                  <a:pt x="14153" y="13120"/>
                  <a:pt x="14602" y="13043"/>
                  <a:pt x="15056" y="12948"/>
                </a:cubicBezTo>
              </a:path>
              <a:path w="2531" h="5508">
                <a:moveTo>
                  <a:pt x="15032" y="13072"/>
                </a:moveTo>
                <a:cubicBezTo>
                  <a:pt x="14872" y="13220"/>
                  <a:pt x="14803" y="13288"/>
                  <a:pt x="14908" y="13469"/>
                </a:cubicBezTo>
                <a:cubicBezTo>
                  <a:pt x="15041" y="13389"/>
                  <a:pt x="15363" y="13147"/>
                  <a:pt x="15032" y="13047"/>
                </a:cubicBezTo>
                <a:cubicBezTo>
                  <a:pt x="14974" y="13047"/>
                  <a:pt x="14916" y="13047"/>
                  <a:pt x="14858" y="1304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6720" y="2625840"/>
            <a:ext cx="1687320" cy="928440"/>
          </a:xfrm>
          <a:custGeom>
            <a:avLst/>
            <a:gdLst/>
            <a:ahLst/>
            <a:rect l="l" t="t" r="r" b="b"/>
            <a:pathLst>
              <a:path w="4689" h="2580">
                <a:moveTo>
                  <a:pt x="16966" y="9004"/>
                </a:moveTo>
                <a:cubicBezTo>
                  <a:pt x="17032" y="9092"/>
                  <a:pt x="17013" y="9096"/>
                  <a:pt x="17090" y="9004"/>
                </a:cubicBezTo>
                <a:cubicBezTo>
                  <a:pt x="17035" y="8976"/>
                  <a:pt x="17012" y="8968"/>
                  <a:pt x="16966" y="8979"/>
                </a:cubicBezTo>
              </a:path>
              <a:path w="4689" h="2580">
                <a:moveTo>
                  <a:pt x="17338" y="8458"/>
                </a:moveTo>
                <a:cubicBezTo>
                  <a:pt x="17331" y="8626"/>
                  <a:pt x="17223" y="8977"/>
                  <a:pt x="17438" y="9054"/>
                </a:cubicBezTo>
                <a:cubicBezTo>
                  <a:pt x="17705" y="9149"/>
                  <a:pt x="17836" y="8895"/>
                  <a:pt x="17785" y="8706"/>
                </a:cubicBezTo>
                <a:cubicBezTo>
                  <a:pt x="17633" y="8794"/>
                  <a:pt x="17486" y="8860"/>
                  <a:pt x="17611" y="9029"/>
                </a:cubicBezTo>
              </a:path>
              <a:path w="4689" h="2580">
                <a:moveTo>
                  <a:pt x="18058" y="8310"/>
                </a:moveTo>
                <a:cubicBezTo>
                  <a:pt x="18262" y="8318"/>
                  <a:pt x="18692" y="8455"/>
                  <a:pt x="18479" y="8781"/>
                </a:cubicBezTo>
                <a:cubicBezTo>
                  <a:pt x="18355" y="8971"/>
                  <a:pt x="18165" y="8868"/>
                  <a:pt x="18033" y="8806"/>
                </a:cubicBezTo>
                <a:cubicBezTo>
                  <a:pt x="18186" y="8652"/>
                  <a:pt x="18316" y="8685"/>
                  <a:pt x="18455" y="8880"/>
                </a:cubicBezTo>
                <a:cubicBezTo>
                  <a:pt x="18463" y="8897"/>
                  <a:pt x="18471" y="8913"/>
                  <a:pt x="18479" y="8930"/>
                </a:cubicBezTo>
              </a:path>
              <a:path w="4689" h="2580">
                <a:moveTo>
                  <a:pt x="19050" y="8111"/>
                </a:moveTo>
                <a:cubicBezTo>
                  <a:pt x="18857" y="8111"/>
                  <a:pt x="18857" y="8146"/>
                  <a:pt x="18752" y="8310"/>
                </a:cubicBezTo>
                <a:cubicBezTo>
                  <a:pt x="18873" y="8339"/>
                  <a:pt x="18969" y="8206"/>
                  <a:pt x="19100" y="8285"/>
                </a:cubicBezTo>
                <a:cubicBezTo>
                  <a:pt x="19350" y="8435"/>
                  <a:pt x="19066" y="8583"/>
                  <a:pt x="18951" y="8632"/>
                </a:cubicBezTo>
              </a:path>
              <a:path w="4689" h="2580">
                <a:moveTo>
                  <a:pt x="16545" y="9674"/>
                </a:moveTo>
                <a:cubicBezTo>
                  <a:pt x="17220" y="9646"/>
                  <a:pt x="17866" y="9506"/>
                  <a:pt x="18529" y="9376"/>
                </a:cubicBezTo>
                <a:cubicBezTo>
                  <a:pt x="19360" y="9213"/>
                  <a:pt x="19803" y="9059"/>
                  <a:pt x="20290" y="8384"/>
                </a:cubicBezTo>
                <a:cubicBezTo>
                  <a:pt x="20136" y="7711"/>
                  <a:pt x="19685" y="7392"/>
                  <a:pt x="18951" y="7293"/>
                </a:cubicBezTo>
                <a:cubicBezTo>
                  <a:pt x="17861" y="7146"/>
                  <a:pt x="16483" y="7483"/>
                  <a:pt x="15850" y="8458"/>
                </a:cubicBezTo>
                <a:cubicBezTo>
                  <a:pt x="15234" y="9407"/>
                  <a:pt x="15826" y="9530"/>
                  <a:pt x="16495" y="987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1920" y="4964040"/>
            <a:ext cx="393480" cy="287280"/>
          </a:xfrm>
          <a:custGeom>
            <a:avLst/>
            <a:gdLst/>
            <a:ahLst/>
            <a:rect l="l" t="t" r="r" b="b"/>
            <a:pathLst>
              <a:path w="1092" h="795">
                <a:moveTo>
                  <a:pt x="10344" y="13990"/>
                </a:moveTo>
                <a:cubicBezTo>
                  <a:pt x="10325" y="13823"/>
                  <a:pt x="10257" y="13802"/>
                  <a:pt x="10096" y="13791"/>
                </a:cubicBezTo>
                <a:cubicBezTo>
                  <a:pt x="9826" y="13773"/>
                  <a:pt x="9929" y="14013"/>
                  <a:pt x="9971" y="14188"/>
                </a:cubicBezTo>
                <a:cubicBezTo>
                  <a:pt x="10178" y="14176"/>
                  <a:pt x="10234" y="14078"/>
                  <a:pt x="10344" y="13891"/>
                </a:cubicBezTo>
                <a:cubicBezTo>
                  <a:pt x="10344" y="14114"/>
                  <a:pt x="10298" y="14316"/>
                  <a:pt x="10269" y="14536"/>
                </a:cubicBezTo>
                <a:cubicBezTo>
                  <a:pt x="10269" y="14552"/>
                  <a:pt x="10269" y="14569"/>
                  <a:pt x="10269" y="14585"/>
                </a:cubicBezTo>
              </a:path>
              <a:path w="1092" h="795">
                <a:moveTo>
                  <a:pt x="10641" y="13791"/>
                </a:moveTo>
                <a:cubicBezTo>
                  <a:pt x="10605" y="13962"/>
                  <a:pt x="10509" y="14242"/>
                  <a:pt x="10567" y="14412"/>
                </a:cubicBezTo>
                <a:cubicBezTo>
                  <a:pt x="10592" y="14437"/>
                  <a:pt x="10616" y="14461"/>
                  <a:pt x="10641" y="14486"/>
                </a:cubicBezTo>
                <a:cubicBezTo>
                  <a:pt x="10808" y="14413"/>
                  <a:pt x="11125" y="14269"/>
                  <a:pt x="10988" y="14015"/>
                </a:cubicBezTo>
                <a:cubicBezTo>
                  <a:pt x="10963" y="14007"/>
                  <a:pt x="10939" y="13998"/>
                  <a:pt x="10914" y="13990"/>
                </a:cubicBezTo>
                <a:cubicBezTo>
                  <a:pt x="10738" y="14153"/>
                  <a:pt x="10716" y="14289"/>
                  <a:pt x="10740" y="1453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01920" y="5010120"/>
            <a:ext cx="465120" cy="561960"/>
          </a:xfrm>
          <a:custGeom>
            <a:avLst/>
            <a:gdLst/>
            <a:ahLst/>
            <a:rect l="l" t="t" r="r" b="b"/>
            <a:pathLst>
              <a:path w="1291" h="1564">
                <a:moveTo>
                  <a:pt x="6697" y="14560"/>
                </a:moveTo>
                <a:cubicBezTo>
                  <a:pt x="6768" y="14695"/>
                  <a:pt x="6847" y="14824"/>
                  <a:pt x="6921" y="14957"/>
                </a:cubicBezTo>
              </a:path>
              <a:path w="1291" h="1564">
                <a:moveTo>
                  <a:pt x="6945" y="14610"/>
                </a:moveTo>
                <a:cubicBezTo>
                  <a:pt x="6856" y="14736"/>
                  <a:pt x="6770" y="14864"/>
                  <a:pt x="6672" y="14982"/>
                </a:cubicBezTo>
              </a:path>
              <a:path w="1291" h="1564">
                <a:moveTo>
                  <a:pt x="7491" y="14883"/>
                </a:moveTo>
                <a:cubicBezTo>
                  <a:pt x="7482" y="15000"/>
                  <a:pt x="7450" y="15097"/>
                  <a:pt x="7491" y="15205"/>
                </a:cubicBezTo>
                <a:cubicBezTo>
                  <a:pt x="7604" y="15149"/>
                  <a:pt x="7652" y="15128"/>
                  <a:pt x="7739" y="15106"/>
                </a:cubicBezTo>
              </a:path>
              <a:path w="1291" h="1564">
                <a:moveTo>
                  <a:pt x="7739" y="14883"/>
                </a:moveTo>
                <a:cubicBezTo>
                  <a:pt x="7715" y="15083"/>
                  <a:pt x="7684" y="15280"/>
                  <a:pt x="7665" y="15478"/>
                </a:cubicBezTo>
              </a:path>
              <a:path w="1291" h="1564">
                <a:moveTo>
                  <a:pt x="7392" y="14560"/>
                </a:moveTo>
                <a:cubicBezTo>
                  <a:pt x="7581" y="14587"/>
                  <a:pt x="7769" y="14585"/>
                  <a:pt x="7962" y="14585"/>
                </a:cubicBezTo>
              </a:path>
              <a:path w="1291" h="1564">
                <a:moveTo>
                  <a:pt x="7342" y="14039"/>
                </a:moveTo>
                <a:cubicBezTo>
                  <a:pt x="7375" y="14137"/>
                  <a:pt x="7363" y="14171"/>
                  <a:pt x="7317" y="14263"/>
                </a:cubicBezTo>
                <a:cubicBezTo>
                  <a:pt x="7403" y="14228"/>
                  <a:pt x="7473" y="14213"/>
                  <a:pt x="7565" y="14213"/>
                </a:cubicBezTo>
              </a:path>
              <a:path w="1291" h="1564">
                <a:moveTo>
                  <a:pt x="7590" y="13915"/>
                </a:moveTo>
                <a:cubicBezTo>
                  <a:pt x="7553" y="14146"/>
                  <a:pt x="7527" y="14377"/>
                  <a:pt x="7516" y="1461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97160" y="5259240"/>
            <a:ext cx="874800" cy="393840"/>
          </a:xfrm>
          <a:custGeom>
            <a:avLst/>
            <a:gdLst/>
            <a:ahLst/>
            <a:rect l="l" t="t" r="r" b="b"/>
            <a:pathLst>
              <a:path w="2432" h="1092">
                <a:moveTo>
                  <a:pt x="8880" y="14610"/>
                </a:moveTo>
                <a:cubicBezTo>
                  <a:pt x="9021" y="14622"/>
                  <a:pt x="9136" y="14618"/>
                  <a:pt x="9277" y="14610"/>
                </a:cubicBezTo>
              </a:path>
              <a:path w="2432" h="1092">
                <a:moveTo>
                  <a:pt x="8954" y="14784"/>
                </a:moveTo>
                <a:cubicBezTo>
                  <a:pt x="9067" y="14771"/>
                  <a:pt x="9164" y="14747"/>
                  <a:pt x="9277" y="14734"/>
                </a:cubicBezTo>
              </a:path>
              <a:path w="2432" h="1092">
                <a:moveTo>
                  <a:pt x="9699" y="15056"/>
                </a:moveTo>
                <a:cubicBezTo>
                  <a:pt x="9694" y="15273"/>
                  <a:pt x="9682" y="15485"/>
                  <a:pt x="9674" y="15701"/>
                </a:cubicBezTo>
              </a:path>
              <a:path w="2432" h="1092">
                <a:moveTo>
                  <a:pt x="10096" y="15230"/>
                </a:moveTo>
                <a:cubicBezTo>
                  <a:pt x="10053" y="15422"/>
                  <a:pt x="10024" y="15467"/>
                  <a:pt x="10096" y="15577"/>
                </a:cubicBezTo>
                <a:cubicBezTo>
                  <a:pt x="10231" y="15577"/>
                  <a:pt x="10736" y="15524"/>
                  <a:pt x="10517" y="15230"/>
                </a:cubicBezTo>
                <a:cubicBezTo>
                  <a:pt x="10374" y="15159"/>
                  <a:pt x="10331" y="15138"/>
                  <a:pt x="10244" y="15081"/>
                </a:cubicBezTo>
              </a:path>
              <a:path w="2432" h="1092">
                <a:moveTo>
                  <a:pt x="11038" y="15081"/>
                </a:moveTo>
                <a:cubicBezTo>
                  <a:pt x="10892" y="15259"/>
                  <a:pt x="10844" y="15353"/>
                  <a:pt x="10790" y="15577"/>
                </a:cubicBezTo>
                <a:cubicBezTo>
                  <a:pt x="10961" y="15650"/>
                  <a:pt x="11362" y="15643"/>
                  <a:pt x="11286" y="15304"/>
                </a:cubicBezTo>
                <a:cubicBezTo>
                  <a:pt x="11150" y="15168"/>
                  <a:pt x="11093" y="15129"/>
                  <a:pt x="10939" y="15205"/>
                </a:cubicBezTo>
              </a:path>
              <a:path w="2432" h="1092">
                <a:moveTo>
                  <a:pt x="10046" y="14759"/>
                </a:moveTo>
                <a:cubicBezTo>
                  <a:pt x="10361" y="14777"/>
                  <a:pt x="10737" y="14671"/>
                  <a:pt x="11063" y="14635"/>
                </a:cubicBezTo>
                <a:cubicBezTo>
                  <a:pt x="11213" y="14616"/>
                  <a:pt x="11237" y="14586"/>
                  <a:pt x="11311" y="1463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0160" y="4884840"/>
            <a:ext cx="1724040" cy="884160"/>
          </a:xfrm>
          <a:custGeom>
            <a:avLst/>
            <a:gdLst/>
            <a:ahLst/>
            <a:rect l="l" t="t" r="r" b="b"/>
            <a:pathLst>
              <a:path w="4788" h="2457">
                <a:moveTo>
                  <a:pt x="12353" y="14759"/>
                </a:moveTo>
                <a:cubicBezTo>
                  <a:pt x="12463" y="14742"/>
                  <a:pt x="12568" y="14732"/>
                  <a:pt x="12675" y="14709"/>
                </a:cubicBezTo>
              </a:path>
              <a:path w="4788" h="2457">
                <a:moveTo>
                  <a:pt x="12378" y="14957"/>
                </a:moveTo>
                <a:cubicBezTo>
                  <a:pt x="12511" y="14950"/>
                  <a:pt x="12641" y="14938"/>
                  <a:pt x="12774" y="14932"/>
                </a:cubicBezTo>
              </a:path>
              <a:path w="4788" h="2457">
                <a:moveTo>
                  <a:pt x="13667" y="15205"/>
                </a:moveTo>
                <a:cubicBezTo>
                  <a:pt x="13650" y="15235"/>
                  <a:pt x="13625" y="15383"/>
                  <a:pt x="13717" y="15329"/>
                </a:cubicBezTo>
                <a:cubicBezTo>
                  <a:pt x="13784" y="15262"/>
                  <a:pt x="13809" y="15247"/>
                  <a:pt x="13791" y="15180"/>
                </a:cubicBezTo>
                <a:cubicBezTo>
                  <a:pt x="13752" y="15187"/>
                  <a:pt x="13557" y="15325"/>
                  <a:pt x="13618" y="15329"/>
                </a:cubicBezTo>
                <a:cubicBezTo>
                  <a:pt x="13643" y="15321"/>
                  <a:pt x="13667" y="15312"/>
                  <a:pt x="13692" y="15304"/>
                </a:cubicBezTo>
              </a:path>
              <a:path w="4788" h="2457">
                <a:moveTo>
                  <a:pt x="14635" y="14635"/>
                </a:moveTo>
                <a:cubicBezTo>
                  <a:pt x="14600" y="14496"/>
                  <a:pt x="14492" y="14350"/>
                  <a:pt x="14312" y="14436"/>
                </a:cubicBezTo>
                <a:cubicBezTo>
                  <a:pt x="14167" y="14505"/>
                  <a:pt x="14066" y="14938"/>
                  <a:pt x="14337" y="14808"/>
                </a:cubicBezTo>
                <a:cubicBezTo>
                  <a:pt x="14493" y="14675"/>
                  <a:pt x="14537" y="14644"/>
                  <a:pt x="14610" y="14536"/>
                </a:cubicBezTo>
                <a:cubicBezTo>
                  <a:pt x="14566" y="14767"/>
                  <a:pt x="14530" y="15018"/>
                  <a:pt x="14560" y="15255"/>
                </a:cubicBezTo>
                <a:cubicBezTo>
                  <a:pt x="14588" y="15311"/>
                  <a:pt x="14599" y="15320"/>
                  <a:pt x="14610" y="15230"/>
                </a:cubicBezTo>
              </a:path>
              <a:path w="4788" h="2457">
                <a:moveTo>
                  <a:pt x="15106" y="14337"/>
                </a:moveTo>
                <a:cubicBezTo>
                  <a:pt x="15049" y="14574"/>
                  <a:pt x="14967" y="14844"/>
                  <a:pt x="15081" y="15081"/>
                </a:cubicBezTo>
                <a:cubicBezTo>
                  <a:pt x="15213" y="15356"/>
                  <a:pt x="15553" y="15245"/>
                  <a:pt x="15627" y="14982"/>
                </a:cubicBezTo>
                <a:cubicBezTo>
                  <a:pt x="15604" y="14825"/>
                  <a:pt x="15610" y="14778"/>
                  <a:pt x="15503" y="14734"/>
                </a:cubicBezTo>
                <a:cubicBezTo>
                  <a:pt x="15306" y="14849"/>
                  <a:pt x="15315" y="14858"/>
                  <a:pt x="15255" y="15081"/>
                </a:cubicBezTo>
              </a:path>
              <a:path w="4788" h="2457">
                <a:moveTo>
                  <a:pt x="13494" y="15825"/>
                </a:moveTo>
                <a:cubicBezTo>
                  <a:pt x="14185" y="16008"/>
                  <a:pt x="14913" y="16044"/>
                  <a:pt x="15627" y="15900"/>
                </a:cubicBezTo>
                <a:cubicBezTo>
                  <a:pt x="16281" y="15768"/>
                  <a:pt x="17217" y="15380"/>
                  <a:pt x="16644" y="14585"/>
                </a:cubicBezTo>
                <a:cubicBezTo>
                  <a:pt x="15984" y="13669"/>
                  <a:pt x="14619" y="13365"/>
                  <a:pt x="13568" y="13667"/>
                </a:cubicBezTo>
                <a:cubicBezTo>
                  <a:pt x="12487" y="13978"/>
                  <a:pt x="12099" y="14726"/>
                  <a:pt x="12229" y="15677"/>
                </a:cubicBezTo>
                <a:cubicBezTo>
                  <a:pt x="13102" y="15997"/>
                  <a:pt x="13623" y="15999"/>
                  <a:pt x="14585" y="1599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ractions to decimals to percents and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ach of the following in simplest for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/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6040" y="1820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739" y="5060"/>
                </a:moveTo>
                <a:lnTo>
                  <a:pt x="7739" y="5060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54240" y="2000160"/>
            <a:ext cx="2509920" cy="1017720"/>
          </a:xfrm>
          <a:custGeom>
            <a:avLst/>
            <a:gdLst/>
            <a:ahLst/>
            <a:rect l="l" t="t" r="r" b="b"/>
            <a:pathLst>
              <a:path w="6971" h="2829">
                <a:moveTo>
                  <a:pt x="9351" y="6276"/>
                </a:moveTo>
                <a:cubicBezTo>
                  <a:pt x="9254" y="6471"/>
                  <a:pt x="9178" y="6637"/>
                  <a:pt x="9128" y="6846"/>
                </a:cubicBezTo>
                <a:cubicBezTo>
                  <a:pt x="9337" y="6964"/>
                  <a:pt x="9608" y="6906"/>
                  <a:pt x="9699" y="6623"/>
                </a:cubicBezTo>
                <a:cubicBezTo>
                  <a:pt x="9738" y="6503"/>
                  <a:pt x="9383" y="6838"/>
                  <a:pt x="9351" y="6896"/>
                </a:cubicBezTo>
              </a:path>
              <a:path w="6971" h="2829">
                <a:moveTo>
                  <a:pt x="9971" y="6375"/>
                </a:moveTo>
                <a:cubicBezTo>
                  <a:pt x="10192" y="6326"/>
                  <a:pt x="10443" y="6460"/>
                  <a:pt x="10269" y="6747"/>
                </a:cubicBezTo>
                <a:cubicBezTo>
                  <a:pt x="10133" y="6972"/>
                  <a:pt x="9993" y="6918"/>
                  <a:pt x="9823" y="6846"/>
                </a:cubicBezTo>
                <a:cubicBezTo>
                  <a:pt x="9980" y="6648"/>
                  <a:pt x="10122" y="6729"/>
                  <a:pt x="10319" y="6921"/>
                </a:cubicBezTo>
                <a:cubicBezTo>
                  <a:pt x="10335" y="6946"/>
                  <a:pt x="10352" y="6970"/>
                  <a:pt x="10368" y="6995"/>
                </a:cubicBezTo>
              </a:path>
              <a:path w="6971" h="2829">
                <a:moveTo>
                  <a:pt x="8483" y="7045"/>
                </a:moveTo>
                <a:cubicBezTo>
                  <a:pt x="9049" y="7055"/>
                  <a:pt x="9632" y="7051"/>
                  <a:pt x="10195" y="7119"/>
                </a:cubicBezTo>
                <a:cubicBezTo>
                  <a:pt x="10269" y="7136"/>
                  <a:pt x="10344" y="7152"/>
                  <a:pt x="10418" y="7169"/>
                </a:cubicBezTo>
              </a:path>
              <a:path w="6971" h="2829">
                <a:moveTo>
                  <a:pt x="8830" y="7268"/>
                </a:moveTo>
                <a:cubicBezTo>
                  <a:pt x="8808" y="7551"/>
                  <a:pt x="8769" y="7735"/>
                  <a:pt x="8632" y="7987"/>
                </a:cubicBezTo>
              </a:path>
              <a:path w="6971" h="2829">
                <a:moveTo>
                  <a:pt x="9277" y="7342"/>
                </a:moveTo>
                <a:cubicBezTo>
                  <a:pt x="9112" y="7507"/>
                  <a:pt x="9066" y="7590"/>
                  <a:pt x="9004" y="7813"/>
                </a:cubicBezTo>
                <a:cubicBezTo>
                  <a:pt x="9181" y="7906"/>
                  <a:pt x="9662" y="7958"/>
                  <a:pt x="9575" y="7565"/>
                </a:cubicBezTo>
                <a:cubicBezTo>
                  <a:pt x="9454" y="7420"/>
                  <a:pt x="9416" y="7372"/>
                  <a:pt x="9277" y="7367"/>
                </a:cubicBezTo>
              </a:path>
              <a:path w="6971" h="2829">
                <a:moveTo>
                  <a:pt x="9922" y="7392"/>
                </a:moveTo>
                <a:cubicBezTo>
                  <a:pt x="9787" y="7490"/>
                  <a:pt x="9735" y="7655"/>
                  <a:pt x="9798" y="7838"/>
                </a:cubicBezTo>
                <a:cubicBezTo>
                  <a:pt x="9823" y="7879"/>
                  <a:pt x="9847" y="7921"/>
                  <a:pt x="9872" y="7962"/>
                </a:cubicBezTo>
                <a:cubicBezTo>
                  <a:pt x="10098" y="7954"/>
                  <a:pt x="10503" y="7848"/>
                  <a:pt x="10319" y="7491"/>
                </a:cubicBezTo>
                <a:cubicBezTo>
                  <a:pt x="10159" y="7354"/>
                  <a:pt x="10119" y="7304"/>
                  <a:pt x="9971" y="7342"/>
                </a:cubicBezTo>
              </a:path>
              <a:path w="6971" h="2829">
                <a:moveTo>
                  <a:pt x="10765" y="7144"/>
                </a:moveTo>
                <a:cubicBezTo>
                  <a:pt x="10905" y="7162"/>
                  <a:pt x="11021" y="7148"/>
                  <a:pt x="11162" y="7144"/>
                </a:cubicBezTo>
                <a:cubicBezTo>
                  <a:pt x="11187" y="7144"/>
                  <a:pt x="11212" y="7144"/>
                  <a:pt x="11237" y="7144"/>
                </a:cubicBezTo>
              </a:path>
              <a:path w="6971" h="2829">
                <a:moveTo>
                  <a:pt x="10939" y="6921"/>
                </a:moveTo>
                <a:lnTo>
                  <a:pt x="10939" y="6921"/>
                </a:lnTo>
              </a:path>
              <a:path w="6971" h="2829">
                <a:moveTo>
                  <a:pt x="10939" y="7441"/>
                </a:moveTo>
                <a:lnTo>
                  <a:pt x="10939" y="7441"/>
                </a:lnTo>
              </a:path>
              <a:path w="6971" h="2829">
                <a:moveTo>
                  <a:pt x="11708" y="6821"/>
                </a:moveTo>
                <a:cubicBezTo>
                  <a:pt x="11945" y="6789"/>
                  <a:pt x="11876" y="6857"/>
                  <a:pt x="11733" y="6995"/>
                </a:cubicBezTo>
                <a:cubicBezTo>
                  <a:pt x="11534" y="7187"/>
                  <a:pt x="11917" y="7055"/>
                  <a:pt x="12005" y="7045"/>
                </a:cubicBezTo>
              </a:path>
              <a:path w="6971" h="2829">
                <a:moveTo>
                  <a:pt x="11782" y="7193"/>
                </a:moveTo>
                <a:cubicBezTo>
                  <a:pt x="11840" y="7177"/>
                  <a:pt x="11898" y="7160"/>
                  <a:pt x="11956" y="7144"/>
                </a:cubicBezTo>
              </a:path>
              <a:path w="6971" h="2829">
                <a:moveTo>
                  <a:pt x="11683" y="7367"/>
                </a:moveTo>
                <a:cubicBezTo>
                  <a:pt x="11782" y="7347"/>
                  <a:pt x="11798" y="7339"/>
                  <a:pt x="11857" y="7342"/>
                </a:cubicBezTo>
                <a:cubicBezTo>
                  <a:pt x="11788" y="7451"/>
                  <a:pt x="11688" y="7556"/>
                  <a:pt x="11633" y="7665"/>
                </a:cubicBezTo>
                <a:cubicBezTo>
                  <a:pt x="11773" y="7655"/>
                  <a:pt x="11829" y="7629"/>
                  <a:pt x="11956" y="7565"/>
                </a:cubicBezTo>
              </a:path>
              <a:path w="6971" h="2829">
                <a:moveTo>
                  <a:pt x="12402" y="7144"/>
                </a:moveTo>
                <a:cubicBezTo>
                  <a:pt x="12443" y="7136"/>
                  <a:pt x="12485" y="7127"/>
                  <a:pt x="12526" y="7119"/>
                </a:cubicBezTo>
              </a:path>
              <a:path w="6971" h="2829">
                <a:moveTo>
                  <a:pt x="12452" y="7293"/>
                </a:moveTo>
                <a:cubicBezTo>
                  <a:pt x="12518" y="7285"/>
                  <a:pt x="12584" y="7276"/>
                  <a:pt x="12650" y="7268"/>
                </a:cubicBezTo>
              </a:path>
              <a:path w="6971" h="2829">
                <a:moveTo>
                  <a:pt x="13593" y="6424"/>
                </a:moveTo>
                <a:cubicBezTo>
                  <a:pt x="13684" y="6450"/>
                  <a:pt x="13993" y="6476"/>
                  <a:pt x="13791" y="6598"/>
                </a:cubicBezTo>
                <a:cubicBezTo>
                  <a:pt x="13750" y="6615"/>
                  <a:pt x="13708" y="6631"/>
                  <a:pt x="13667" y="6648"/>
                </a:cubicBezTo>
                <a:cubicBezTo>
                  <a:pt x="13659" y="6648"/>
                  <a:pt x="13651" y="6648"/>
                  <a:pt x="13643" y="6648"/>
                </a:cubicBezTo>
                <a:cubicBezTo>
                  <a:pt x="13769" y="6641"/>
                  <a:pt x="14231" y="6731"/>
                  <a:pt x="13866" y="6896"/>
                </a:cubicBezTo>
                <a:cubicBezTo>
                  <a:pt x="13800" y="6904"/>
                  <a:pt x="13733" y="6913"/>
                  <a:pt x="13667" y="6921"/>
                </a:cubicBezTo>
              </a:path>
              <a:path w="6971" h="2829">
                <a:moveTo>
                  <a:pt x="14312" y="6449"/>
                </a:moveTo>
                <a:cubicBezTo>
                  <a:pt x="14386" y="6620"/>
                  <a:pt x="14465" y="6775"/>
                  <a:pt x="14536" y="6945"/>
                </a:cubicBezTo>
              </a:path>
              <a:path w="6971" h="2829">
                <a:moveTo>
                  <a:pt x="13568" y="7169"/>
                </a:moveTo>
                <a:cubicBezTo>
                  <a:pt x="14002" y="7117"/>
                  <a:pt x="14424" y="7066"/>
                  <a:pt x="14858" y="7045"/>
                </a:cubicBezTo>
              </a:path>
              <a:path w="6971" h="2829">
                <a:moveTo>
                  <a:pt x="13618" y="7441"/>
                </a:moveTo>
                <a:cubicBezTo>
                  <a:pt x="13580" y="7518"/>
                  <a:pt x="13581" y="7534"/>
                  <a:pt x="13543" y="7565"/>
                </a:cubicBezTo>
                <a:cubicBezTo>
                  <a:pt x="13649" y="7606"/>
                  <a:pt x="14029" y="7674"/>
                  <a:pt x="13841" y="7863"/>
                </a:cubicBezTo>
                <a:cubicBezTo>
                  <a:pt x="13800" y="7880"/>
                  <a:pt x="13758" y="7896"/>
                  <a:pt x="13717" y="7913"/>
                </a:cubicBezTo>
              </a:path>
              <a:path w="6971" h="2829">
                <a:moveTo>
                  <a:pt x="13643" y="7466"/>
                </a:moveTo>
                <a:cubicBezTo>
                  <a:pt x="13905" y="7407"/>
                  <a:pt x="14169" y="7364"/>
                  <a:pt x="14436" y="7342"/>
                </a:cubicBezTo>
                <a:cubicBezTo>
                  <a:pt x="14395" y="7405"/>
                  <a:pt x="14187" y="7695"/>
                  <a:pt x="14337" y="7764"/>
                </a:cubicBezTo>
                <a:cubicBezTo>
                  <a:pt x="14722" y="7941"/>
                  <a:pt x="14645" y="7487"/>
                  <a:pt x="14461" y="7342"/>
                </a:cubicBezTo>
              </a:path>
              <a:path w="6971" h="2829">
                <a:moveTo>
                  <a:pt x="12973" y="8310"/>
                </a:moveTo>
                <a:cubicBezTo>
                  <a:pt x="13636" y="8397"/>
                  <a:pt x="14181" y="8242"/>
                  <a:pt x="14784" y="7913"/>
                </a:cubicBezTo>
                <a:cubicBezTo>
                  <a:pt x="15429" y="7561"/>
                  <a:pt x="15742" y="6922"/>
                  <a:pt x="15180" y="6300"/>
                </a:cubicBezTo>
                <a:cubicBezTo>
                  <a:pt x="14474" y="5517"/>
                  <a:pt x="13169" y="5165"/>
                  <a:pt x="12427" y="6102"/>
                </a:cubicBezTo>
                <a:cubicBezTo>
                  <a:pt x="11509" y="7261"/>
                  <a:pt x="12268" y="7919"/>
                  <a:pt x="13246" y="83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6240" y="3286080"/>
            <a:ext cx="2741760" cy="1108080"/>
          </a:xfrm>
          <a:custGeom>
            <a:avLst/>
            <a:gdLst/>
            <a:ahLst/>
            <a:rect l="l" t="t" r="r" b="b"/>
            <a:pathLst>
              <a:path w="7616" h="3077">
                <a:moveTo>
                  <a:pt x="9252" y="9798"/>
                </a:moveTo>
                <a:cubicBezTo>
                  <a:pt x="9141" y="9841"/>
                  <a:pt x="8530" y="10019"/>
                  <a:pt x="8756" y="10220"/>
                </a:cubicBezTo>
                <a:cubicBezTo>
                  <a:pt x="8963" y="10404"/>
                  <a:pt x="9090" y="10293"/>
                  <a:pt x="9203" y="10517"/>
                </a:cubicBezTo>
                <a:cubicBezTo>
                  <a:pt x="9040" y="10633"/>
                  <a:pt x="8995" y="10675"/>
                  <a:pt x="8855" y="10641"/>
                </a:cubicBezTo>
                <a:cubicBezTo>
                  <a:pt x="8952" y="10360"/>
                  <a:pt x="9054" y="10248"/>
                  <a:pt x="9277" y="10046"/>
                </a:cubicBezTo>
              </a:path>
              <a:path w="7616" h="3077">
                <a:moveTo>
                  <a:pt x="8186" y="11112"/>
                </a:moveTo>
                <a:cubicBezTo>
                  <a:pt x="8735" y="10994"/>
                  <a:pt x="9236" y="10849"/>
                  <a:pt x="9798" y="10914"/>
                </a:cubicBezTo>
              </a:path>
              <a:path w="7616" h="3077">
                <a:moveTo>
                  <a:pt x="8607" y="11286"/>
                </a:moveTo>
                <a:cubicBezTo>
                  <a:pt x="8599" y="11585"/>
                  <a:pt x="8567" y="11861"/>
                  <a:pt x="8508" y="12154"/>
                </a:cubicBezTo>
              </a:path>
              <a:path w="7616" h="3077">
                <a:moveTo>
                  <a:pt x="8905" y="11658"/>
                </a:moveTo>
                <a:cubicBezTo>
                  <a:pt x="8897" y="11724"/>
                  <a:pt x="8888" y="11791"/>
                  <a:pt x="8880" y="11857"/>
                </a:cubicBezTo>
                <a:cubicBezTo>
                  <a:pt x="9065" y="11925"/>
                  <a:pt x="9420" y="11825"/>
                  <a:pt x="9203" y="11534"/>
                </a:cubicBezTo>
                <a:cubicBezTo>
                  <a:pt x="9153" y="11509"/>
                  <a:pt x="9104" y="11485"/>
                  <a:pt x="9054" y="11460"/>
                </a:cubicBezTo>
              </a:path>
              <a:path w="7616" h="3077">
                <a:moveTo>
                  <a:pt x="10120" y="11088"/>
                </a:moveTo>
                <a:cubicBezTo>
                  <a:pt x="10271" y="11137"/>
                  <a:pt x="10388" y="11143"/>
                  <a:pt x="10542" y="11112"/>
                </a:cubicBezTo>
              </a:path>
              <a:path w="7616" h="3077">
                <a:moveTo>
                  <a:pt x="10294" y="10691"/>
                </a:moveTo>
                <a:lnTo>
                  <a:pt x="10294" y="10691"/>
                </a:lnTo>
              </a:path>
              <a:path w="7616" h="3077">
                <a:moveTo>
                  <a:pt x="10244" y="11485"/>
                </a:moveTo>
                <a:lnTo>
                  <a:pt x="10244" y="11485"/>
                </a:lnTo>
              </a:path>
              <a:path w="7616" h="3077">
                <a:moveTo>
                  <a:pt x="11137" y="10468"/>
                </a:moveTo>
                <a:cubicBezTo>
                  <a:pt x="11195" y="10422"/>
                  <a:pt x="11536" y="10231"/>
                  <a:pt x="11509" y="10468"/>
                </a:cubicBezTo>
                <a:cubicBezTo>
                  <a:pt x="11441" y="10650"/>
                  <a:pt x="11427" y="10702"/>
                  <a:pt x="11336" y="10790"/>
                </a:cubicBezTo>
                <a:cubicBezTo>
                  <a:pt x="11469" y="10712"/>
                  <a:pt x="11596" y="10635"/>
                  <a:pt x="11733" y="10567"/>
                </a:cubicBezTo>
              </a:path>
              <a:path w="7616" h="3077">
                <a:moveTo>
                  <a:pt x="11212" y="11063"/>
                </a:moveTo>
                <a:cubicBezTo>
                  <a:pt x="11450" y="10929"/>
                  <a:pt x="11647" y="10841"/>
                  <a:pt x="11906" y="10765"/>
                </a:cubicBezTo>
              </a:path>
              <a:path w="7616" h="3077">
                <a:moveTo>
                  <a:pt x="11361" y="11261"/>
                </a:moveTo>
                <a:cubicBezTo>
                  <a:pt x="11475" y="11216"/>
                  <a:pt x="11507" y="11202"/>
                  <a:pt x="11584" y="11187"/>
                </a:cubicBezTo>
                <a:cubicBezTo>
                  <a:pt x="11658" y="11439"/>
                  <a:pt x="11514" y="11555"/>
                  <a:pt x="11385" y="11782"/>
                </a:cubicBezTo>
                <a:cubicBezTo>
                  <a:pt x="11259" y="12004"/>
                  <a:pt x="11759" y="11552"/>
                  <a:pt x="11857" y="11485"/>
                </a:cubicBezTo>
              </a:path>
              <a:path w="7616" h="3077">
                <a:moveTo>
                  <a:pt x="12526" y="10889"/>
                </a:moveTo>
                <a:cubicBezTo>
                  <a:pt x="12559" y="10881"/>
                  <a:pt x="12593" y="10872"/>
                  <a:pt x="12626" y="10864"/>
                </a:cubicBezTo>
              </a:path>
              <a:path w="7616" h="3077">
                <a:moveTo>
                  <a:pt x="12402" y="11063"/>
                </a:moveTo>
                <a:cubicBezTo>
                  <a:pt x="12522" y="11033"/>
                  <a:pt x="12574" y="11015"/>
                  <a:pt x="12650" y="10964"/>
                </a:cubicBezTo>
              </a:path>
              <a:path w="7616" h="3077">
                <a:moveTo>
                  <a:pt x="13965" y="10294"/>
                </a:moveTo>
                <a:cubicBezTo>
                  <a:pt x="13878" y="10524"/>
                  <a:pt x="13919" y="10511"/>
                  <a:pt x="14139" y="10418"/>
                </a:cubicBezTo>
              </a:path>
              <a:path w="7616" h="3077">
                <a:moveTo>
                  <a:pt x="14486" y="10071"/>
                </a:moveTo>
                <a:cubicBezTo>
                  <a:pt x="14444" y="10286"/>
                  <a:pt x="14403" y="10501"/>
                  <a:pt x="14362" y="10716"/>
                </a:cubicBezTo>
              </a:path>
              <a:path w="7616" h="3077">
                <a:moveTo>
                  <a:pt x="13841" y="10964"/>
                </a:moveTo>
                <a:cubicBezTo>
                  <a:pt x="14170" y="10854"/>
                  <a:pt x="14466" y="10769"/>
                  <a:pt x="14808" y="10716"/>
                </a:cubicBezTo>
              </a:path>
              <a:path w="7616" h="3077">
                <a:moveTo>
                  <a:pt x="14337" y="11311"/>
                </a:moveTo>
                <a:cubicBezTo>
                  <a:pt x="14256" y="11352"/>
                  <a:pt x="14068" y="11425"/>
                  <a:pt x="14039" y="11509"/>
                </a:cubicBezTo>
                <a:cubicBezTo>
                  <a:pt x="14025" y="11549"/>
                  <a:pt x="14039" y="11638"/>
                  <a:pt x="14039" y="11683"/>
                </a:cubicBezTo>
                <a:cubicBezTo>
                  <a:pt x="14214" y="11651"/>
                  <a:pt x="14303" y="11623"/>
                  <a:pt x="14461" y="11658"/>
                </a:cubicBezTo>
                <a:cubicBezTo>
                  <a:pt x="14380" y="11848"/>
                  <a:pt x="14096" y="12085"/>
                  <a:pt x="13841" y="11981"/>
                </a:cubicBezTo>
                <a:cubicBezTo>
                  <a:pt x="13783" y="11923"/>
                  <a:pt x="13725" y="11865"/>
                  <a:pt x="13667" y="11807"/>
                </a:cubicBezTo>
              </a:path>
              <a:path w="7616" h="3077">
                <a:moveTo>
                  <a:pt x="14089" y="10567"/>
                </a:moveTo>
                <a:cubicBezTo>
                  <a:pt x="14215" y="10518"/>
                  <a:pt x="14332" y="10458"/>
                  <a:pt x="14461" y="10418"/>
                </a:cubicBezTo>
              </a:path>
              <a:path w="7616" h="3077">
                <a:moveTo>
                  <a:pt x="13444" y="12030"/>
                </a:moveTo>
                <a:cubicBezTo>
                  <a:pt x="14186" y="12078"/>
                  <a:pt x="14767" y="11887"/>
                  <a:pt x="15329" y="11336"/>
                </a:cubicBezTo>
                <a:cubicBezTo>
                  <a:pt x="15899" y="10777"/>
                  <a:pt x="16036" y="9706"/>
                  <a:pt x="15156" y="9302"/>
                </a:cubicBezTo>
                <a:cubicBezTo>
                  <a:pt x="13909" y="8729"/>
                  <a:pt x="12826" y="9520"/>
                  <a:pt x="12626" y="10790"/>
                </a:cubicBezTo>
                <a:cubicBezTo>
                  <a:pt x="12696" y="11583"/>
                  <a:pt x="12692" y="11823"/>
                  <a:pt x="13097" y="1220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72160" y="2544840"/>
            <a:ext cx="1473120" cy="760320"/>
          </a:xfrm>
          <a:custGeom>
            <a:avLst/>
            <a:gdLst/>
            <a:ahLst/>
            <a:rect l="l" t="t" r="r" b="b"/>
            <a:pathLst>
              <a:path w="4094" h="2110">
                <a:moveTo>
                  <a:pt x="18256" y="8235"/>
                </a:moveTo>
                <a:cubicBezTo>
                  <a:pt x="18256" y="8316"/>
                  <a:pt x="18237" y="8045"/>
                  <a:pt x="18355" y="7987"/>
                </a:cubicBezTo>
                <a:cubicBezTo>
                  <a:pt x="18532" y="7901"/>
                  <a:pt x="18858" y="7944"/>
                  <a:pt x="19050" y="7938"/>
                </a:cubicBezTo>
                <a:cubicBezTo>
                  <a:pt x="19069" y="8282"/>
                  <a:pt x="18863" y="8530"/>
                  <a:pt x="18703" y="8830"/>
                </a:cubicBezTo>
                <a:cubicBezTo>
                  <a:pt x="18627" y="8984"/>
                  <a:pt x="18629" y="9014"/>
                  <a:pt x="18554" y="9079"/>
                </a:cubicBezTo>
              </a:path>
              <a:path w="4094" h="2110">
                <a:moveTo>
                  <a:pt x="20439" y="7069"/>
                </a:moveTo>
                <a:cubicBezTo>
                  <a:pt x="20395" y="7288"/>
                  <a:pt x="20275" y="7509"/>
                  <a:pt x="20290" y="7739"/>
                </a:cubicBezTo>
                <a:cubicBezTo>
                  <a:pt x="20308" y="8015"/>
                  <a:pt x="20652" y="7961"/>
                  <a:pt x="20786" y="7813"/>
                </a:cubicBezTo>
                <a:cubicBezTo>
                  <a:pt x="20886" y="7702"/>
                  <a:pt x="20910" y="7589"/>
                  <a:pt x="20886" y="7466"/>
                </a:cubicBezTo>
                <a:cubicBezTo>
                  <a:pt x="20815" y="7466"/>
                  <a:pt x="20754" y="7444"/>
                  <a:pt x="20712" y="7516"/>
                </a:cubicBezTo>
                <a:cubicBezTo>
                  <a:pt x="20656" y="7613"/>
                  <a:pt x="20624" y="7728"/>
                  <a:pt x="20613" y="7838"/>
                </a:cubicBezTo>
              </a:path>
              <a:path w="4094" h="2110">
                <a:moveTo>
                  <a:pt x="21258" y="7193"/>
                </a:moveTo>
                <a:cubicBezTo>
                  <a:pt x="21337" y="7181"/>
                  <a:pt x="21728" y="7111"/>
                  <a:pt x="21580" y="7317"/>
                </a:cubicBezTo>
                <a:cubicBezTo>
                  <a:pt x="21406" y="7491"/>
                  <a:pt x="21348" y="7549"/>
                  <a:pt x="21233" y="7665"/>
                </a:cubicBezTo>
                <a:cubicBezTo>
                  <a:pt x="21208" y="7690"/>
                  <a:pt x="21183" y="7714"/>
                  <a:pt x="21158" y="7739"/>
                </a:cubicBezTo>
                <a:cubicBezTo>
                  <a:pt x="21357" y="7722"/>
                  <a:pt x="21554" y="7697"/>
                  <a:pt x="21754" y="7689"/>
                </a:cubicBezTo>
              </a:path>
              <a:path w="4094" h="2110">
                <a:moveTo>
                  <a:pt x="20141" y="8111"/>
                </a:moveTo>
                <a:cubicBezTo>
                  <a:pt x="20751" y="8049"/>
                  <a:pt x="21338" y="8008"/>
                  <a:pt x="21952" y="8037"/>
                </a:cubicBezTo>
                <a:cubicBezTo>
                  <a:pt x="22193" y="8056"/>
                  <a:pt x="22223" y="8039"/>
                  <a:pt x="22349" y="8086"/>
                </a:cubicBezTo>
              </a:path>
              <a:path w="4094" h="2110">
                <a:moveTo>
                  <a:pt x="20241" y="8483"/>
                </a:moveTo>
                <a:cubicBezTo>
                  <a:pt x="20221" y="8736"/>
                  <a:pt x="20159" y="8942"/>
                  <a:pt x="20067" y="9178"/>
                </a:cubicBezTo>
              </a:path>
              <a:path w="4094" h="2110">
                <a:moveTo>
                  <a:pt x="20464" y="8781"/>
                </a:moveTo>
                <a:cubicBezTo>
                  <a:pt x="20380" y="8950"/>
                  <a:pt x="20347" y="8984"/>
                  <a:pt x="20365" y="9103"/>
                </a:cubicBezTo>
                <a:cubicBezTo>
                  <a:pt x="20540" y="9096"/>
                  <a:pt x="21053" y="8979"/>
                  <a:pt x="20910" y="8657"/>
                </a:cubicBezTo>
                <a:cubicBezTo>
                  <a:pt x="20727" y="8526"/>
                  <a:pt x="20658" y="8485"/>
                  <a:pt x="20489" y="8533"/>
                </a:cubicBezTo>
              </a:path>
              <a:path w="4094" h="2110">
                <a:moveTo>
                  <a:pt x="21233" y="8483"/>
                </a:moveTo>
                <a:cubicBezTo>
                  <a:pt x="21033" y="8735"/>
                  <a:pt x="21004" y="8706"/>
                  <a:pt x="21084" y="9004"/>
                </a:cubicBezTo>
                <a:cubicBezTo>
                  <a:pt x="21497" y="8962"/>
                  <a:pt x="21696" y="8951"/>
                  <a:pt x="21754" y="8533"/>
                </a:cubicBezTo>
                <a:cubicBezTo>
                  <a:pt x="21475" y="8449"/>
                  <a:pt x="21361" y="8430"/>
                  <a:pt x="21158" y="853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15080" y="3152880"/>
            <a:ext cx="1581120" cy="1071360"/>
          </a:xfrm>
          <a:custGeom>
            <a:avLst/>
            <a:gdLst/>
            <a:ahLst/>
            <a:rect l="l" t="t" r="r" b="b"/>
            <a:pathLst>
              <a:path w="4392" h="2978">
                <a:moveTo>
                  <a:pt x="20216" y="10269"/>
                </a:moveTo>
                <a:cubicBezTo>
                  <a:pt x="20235" y="10384"/>
                  <a:pt x="20425" y="10227"/>
                  <a:pt x="20513" y="10195"/>
                </a:cubicBezTo>
                <a:cubicBezTo>
                  <a:pt x="20636" y="10154"/>
                  <a:pt x="20658" y="10137"/>
                  <a:pt x="20737" y="10145"/>
                </a:cubicBezTo>
                <a:cubicBezTo>
                  <a:pt x="20766" y="10431"/>
                  <a:pt x="20698" y="10709"/>
                  <a:pt x="20613" y="10988"/>
                </a:cubicBezTo>
                <a:cubicBezTo>
                  <a:pt x="20605" y="11005"/>
                  <a:pt x="20596" y="11021"/>
                  <a:pt x="20588" y="11038"/>
                </a:cubicBezTo>
              </a:path>
              <a:path w="4392" h="2978">
                <a:moveTo>
                  <a:pt x="21084" y="10021"/>
                </a:moveTo>
                <a:cubicBezTo>
                  <a:pt x="21174" y="9931"/>
                  <a:pt x="21195" y="9901"/>
                  <a:pt x="21282" y="9897"/>
                </a:cubicBezTo>
                <a:cubicBezTo>
                  <a:pt x="21395" y="10234"/>
                  <a:pt x="20981" y="9778"/>
                  <a:pt x="21406" y="10096"/>
                </a:cubicBezTo>
                <a:cubicBezTo>
                  <a:pt x="21572" y="10221"/>
                  <a:pt x="21218" y="10330"/>
                  <a:pt x="21134" y="10294"/>
                </a:cubicBezTo>
              </a:path>
              <a:path w="4392" h="2978">
                <a:moveTo>
                  <a:pt x="21580" y="9723"/>
                </a:moveTo>
                <a:cubicBezTo>
                  <a:pt x="21659" y="9868"/>
                  <a:pt x="21728" y="9992"/>
                  <a:pt x="21779" y="10145"/>
                </a:cubicBezTo>
              </a:path>
              <a:path w="4392" h="2978">
                <a:moveTo>
                  <a:pt x="20910" y="10468"/>
                </a:moveTo>
                <a:cubicBezTo>
                  <a:pt x="21281" y="10379"/>
                  <a:pt x="21643" y="10274"/>
                  <a:pt x="22002" y="10145"/>
                </a:cubicBezTo>
              </a:path>
              <a:path w="4392" h="2978">
                <a:moveTo>
                  <a:pt x="21158" y="10765"/>
                </a:moveTo>
                <a:cubicBezTo>
                  <a:pt x="21223" y="10801"/>
                  <a:pt x="21417" y="10886"/>
                  <a:pt x="21530" y="10939"/>
                </a:cubicBezTo>
                <a:cubicBezTo>
                  <a:pt x="21547" y="10955"/>
                  <a:pt x="21563" y="10972"/>
                  <a:pt x="21580" y="10988"/>
                </a:cubicBezTo>
                <a:cubicBezTo>
                  <a:pt x="21454" y="10996"/>
                  <a:pt x="21122" y="11110"/>
                  <a:pt x="21134" y="10815"/>
                </a:cubicBezTo>
                <a:cubicBezTo>
                  <a:pt x="21142" y="10610"/>
                  <a:pt x="21461" y="10555"/>
                  <a:pt x="21605" y="10517"/>
                </a:cubicBezTo>
                <a:cubicBezTo>
                  <a:pt x="21902" y="10438"/>
                  <a:pt x="21536" y="10614"/>
                  <a:pt x="21679" y="10815"/>
                </a:cubicBezTo>
                <a:cubicBezTo>
                  <a:pt x="21849" y="10871"/>
                  <a:pt x="21918" y="10877"/>
                  <a:pt x="22027" y="10765"/>
                </a:cubicBezTo>
                <a:cubicBezTo>
                  <a:pt x="22052" y="10472"/>
                  <a:pt x="21891" y="10392"/>
                  <a:pt x="21580" y="10517"/>
                </a:cubicBezTo>
                <a:cubicBezTo>
                  <a:pt x="21281" y="10637"/>
                  <a:pt x="20978" y="10931"/>
                  <a:pt x="20687" y="11088"/>
                </a:cubicBezTo>
                <a:cubicBezTo>
                  <a:pt x="20367" y="11260"/>
                  <a:pt x="20161" y="11354"/>
                  <a:pt x="19968" y="11633"/>
                </a:cubicBezTo>
                <a:cubicBezTo>
                  <a:pt x="20690" y="11823"/>
                  <a:pt x="21375" y="11674"/>
                  <a:pt x="22076" y="11385"/>
                </a:cubicBezTo>
                <a:cubicBezTo>
                  <a:pt x="22801" y="11086"/>
                  <a:pt x="23520" y="10212"/>
                  <a:pt x="22771" y="9451"/>
                </a:cubicBezTo>
                <a:cubicBezTo>
                  <a:pt x="21817" y="8481"/>
                  <a:pt x="20264" y="8589"/>
                  <a:pt x="19323" y="9475"/>
                </a:cubicBezTo>
                <a:cubicBezTo>
                  <a:pt x="18818" y="10186"/>
                  <a:pt x="18648" y="10373"/>
                  <a:pt x="18653" y="10964"/>
                </a:cubicBezTo>
              </a:path>
              <a:path w="4392" h="2978">
                <a:moveTo>
                  <a:pt x="18653" y="10964"/>
                </a:moveTo>
                <a:lnTo>
                  <a:pt x="18653" y="10964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ractions to decimals to percents and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15238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ach as a percen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/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/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70240" y="2187720"/>
            <a:ext cx="2482920" cy="733320"/>
          </a:xfrm>
          <a:custGeom>
            <a:avLst/>
            <a:gdLst/>
            <a:ahLst/>
            <a:rect l="l" t="t" r="r" b="b"/>
            <a:pathLst>
              <a:path w="6896" h="2035">
                <a:moveTo>
                  <a:pt x="12080" y="6251"/>
                </a:moveTo>
                <a:cubicBezTo>
                  <a:pt x="12080" y="6164"/>
                  <a:pt x="12111" y="6703"/>
                  <a:pt x="12105" y="6796"/>
                </a:cubicBezTo>
                <a:cubicBezTo>
                  <a:pt x="12081" y="6914"/>
                  <a:pt x="12068" y="6961"/>
                  <a:pt x="12154" y="6846"/>
                </a:cubicBezTo>
              </a:path>
              <a:path w="6896" h="2035">
                <a:moveTo>
                  <a:pt x="13047" y="6077"/>
                </a:moveTo>
                <a:cubicBezTo>
                  <a:pt x="12984" y="6100"/>
                  <a:pt x="12698" y="6122"/>
                  <a:pt x="12675" y="6152"/>
                </a:cubicBezTo>
                <a:cubicBezTo>
                  <a:pt x="12626" y="6217"/>
                  <a:pt x="12634" y="6414"/>
                  <a:pt x="12626" y="6499"/>
                </a:cubicBezTo>
                <a:cubicBezTo>
                  <a:pt x="12923" y="6421"/>
                  <a:pt x="13058" y="6400"/>
                  <a:pt x="13295" y="6598"/>
                </a:cubicBezTo>
                <a:cubicBezTo>
                  <a:pt x="13122" y="6836"/>
                  <a:pt x="13102" y="6814"/>
                  <a:pt x="12799" y="6871"/>
                </a:cubicBezTo>
              </a:path>
              <a:path w="6896" h="2035">
                <a:moveTo>
                  <a:pt x="11683" y="7193"/>
                </a:moveTo>
                <a:cubicBezTo>
                  <a:pt x="12461" y="7150"/>
                  <a:pt x="13246" y="7030"/>
                  <a:pt x="14015" y="7169"/>
                </a:cubicBezTo>
              </a:path>
              <a:path w="6896" h="2035">
                <a:moveTo>
                  <a:pt x="11584" y="7417"/>
                </a:moveTo>
                <a:cubicBezTo>
                  <a:pt x="11621" y="7649"/>
                  <a:pt x="11610" y="7876"/>
                  <a:pt x="11584" y="8111"/>
                </a:cubicBezTo>
              </a:path>
              <a:path w="6896" h="2035">
                <a:moveTo>
                  <a:pt x="12402" y="7466"/>
                </a:moveTo>
                <a:cubicBezTo>
                  <a:pt x="12183" y="7570"/>
                  <a:pt x="12144" y="7680"/>
                  <a:pt x="12080" y="7913"/>
                </a:cubicBezTo>
                <a:cubicBezTo>
                  <a:pt x="12363" y="8025"/>
                  <a:pt x="12579" y="7930"/>
                  <a:pt x="12650" y="7590"/>
                </a:cubicBezTo>
                <a:cubicBezTo>
                  <a:pt x="12700" y="7348"/>
                  <a:pt x="12290" y="7442"/>
                  <a:pt x="12179" y="7466"/>
                </a:cubicBezTo>
              </a:path>
              <a:path w="6896" h="2035">
                <a:moveTo>
                  <a:pt x="13221" y="7441"/>
                </a:moveTo>
                <a:cubicBezTo>
                  <a:pt x="13049" y="7455"/>
                  <a:pt x="12993" y="7509"/>
                  <a:pt x="12948" y="7689"/>
                </a:cubicBezTo>
                <a:cubicBezTo>
                  <a:pt x="12924" y="7853"/>
                  <a:pt x="12911" y="7902"/>
                  <a:pt x="12998" y="7987"/>
                </a:cubicBezTo>
                <a:cubicBezTo>
                  <a:pt x="13161" y="7942"/>
                  <a:pt x="13755" y="7726"/>
                  <a:pt x="13395" y="7466"/>
                </a:cubicBezTo>
                <a:cubicBezTo>
                  <a:pt x="13329" y="7458"/>
                  <a:pt x="13262" y="7449"/>
                  <a:pt x="13196" y="7441"/>
                </a:cubicBezTo>
              </a:path>
              <a:path w="6896" h="2035">
                <a:moveTo>
                  <a:pt x="14660" y="7069"/>
                </a:moveTo>
                <a:cubicBezTo>
                  <a:pt x="14808" y="7043"/>
                  <a:pt x="14957" y="7019"/>
                  <a:pt x="15106" y="6995"/>
                </a:cubicBezTo>
              </a:path>
              <a:path w="6896" h="2035">
                <a:moveTo>
                  <a:pt x="14635" y="7367"/>
                </a:moveTo>
                <a:cubicBezTo>
                  <a:pt x="14782" y="7315"/>
                  <a:pt x="14928" y="7284"/>
                  <a:pt x="15081" y="7243"/>
                </a:cubicBezTo>
              </a:path>
              <a:path w="6896" h="2035">
                <a:moveTo>
                  <a:pt x="15825" y="6747"/>
                </a:moveTo>
                <a:cubicBezTo>
                  <a:pt x="15881" y="7043"/>
                  <a:pt x="15911" y="7346"/>
                  <a:pt x="15974" y="7640"/>
                </a:cubicBezTo>
                <a:cubicBezTo>
                  <a:pt x="15982" y="7656"/>
                  <a:pt x="15991" y="7673"/>
                  <a:pt x="15999" y="7689"/>
                </a:cubicBezTo>
              </a:path>
              <a:path w="6896" h="2035">
                <a:moveTo>
                  <a:pt x="16867" y="6548"/>
                </a:moveTo>
                <a:cubicBezTo>
                  <a:pt x="16831" y="6563"/>
                  <a:pt x="16481" y="6659"/>
                  <a:pt x="16470" y="6697"/>
                </a:cubicBezTo>
                <a:cubicBezTo>
                  <a:pt x="16436" y="6811"/>
                  <a:pt x="16446" y="6929"/>
                  <a:pt x="16446" y="7045"/>
                </a:cubicBezTo>
                <a:cubicBezTo>
                  <a:pt x="16599" y="6992"/>
                  <a:pt x="16821" y="6855"/>
                  <a:pt x="16991" y="6921"/>
                </a:cubicBezTo>
                <a:cubicBezTo>
                  <a:pt x="17415" y="7085"/>
                  <a:pt x="16865" y="7470"/>
                  <a:pt x="16669" y="7491"/>
                </a:cubicBezTo>
                <a:cubicBezTo>
                  <a:pt x="16595" y="7474"/>
                  <a:pt x="16520" y="7458"/>
                  <a:pt x="16446" y="7441"/>
                </a:cubicBezTo>
              </a:path>
              <a:path w="6896" h="2035">
                <a:moveTo>
                  <a:pt x="17562" y="6400"/>
                </a:moveTo>
                <a:cubicBezTo>
                  <a:pt x="17433" y="6528"/>
                  <a:pt x="17389" y="6550"/>
                  <a:pt x="17388" y="6672"/>
                </a:cubicBezTo>
                <a:cubicBezTo>
                  <a:pt x="17603" y="6736"/>
                  <a:pt x="17732" y="6686"/>
                  <a:pt x="17562" y="6449"/>
                </a:cubicBezTo>
                <a:cubicBezTo>
                  <a:pt x="17482" y="6370"/>
                  <a:pt x="17461" y="6363"/>
                  <a:pt x="17438" y="6300"/>
                </a:cubicBezTo>
                <a:cubicBezTo>
                  <a:pt x="17716" y="6181"/>
                  <a:pt x="17992" y="6228"/>
                  <a:pt x="17983" y="6623"/>
                </a:cubicBezTo>
                <a:cubicBezTo>
                  <a:pt x="17913" y="6880"/>
                  <a:pt x="17897" y="6957"/>
                  <a:pt x="17785" y="7094"/>
                </a:cubicBezTo>
              </a:path>
              <a:path w="6896" h="2035">
                <a:moveTo>
                  <a:pt x="18182" y="6995"/>
                </a:moveTo>
                <a:cubicBezTo>
                  <a:pt x="18181" y="7237"/>
                  <a:pt x="18337" y="7136"/>
                  <a:pt x="18479" y="7020"/>
                </a:cubicBezTo>
                <a:cubicBezTo>
                  <a:pt x="18450" y="6931"/>
                  <a:pt x="18427" y="6906"/>
                  <a:pt x="18331" y="694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94080" y="3357720"/>
            <a:ext cx="1508040" cy="839520"/>
          </a:xfrm>
          <a:custGeom>
            <a:avLst/>
            <a:gdLst/>
            <a:ahLst/>
            <a:rect l="l" t="t" r="r" b="b"/>
            <a:pathLst>
              <a:path w="4193" h="2332">
                <a:moveTo>
                  <a:pt x="10170" y="9376"/>
                </a:moveTo>
                <a:cubicBezTo>
                  <a:pt x="10304" y="9348"/>
                  <a:pt x="10788" y="9250"/>
                  <a:pt x="10567" y="9575"/>
                </a:cubicBezTo>
                <a:cubicBezTo>
                  <a:pt x="10517" y="9616"/>
                  <a:pt x="10468" y="9658"/>
                  <a:pt x="10418" y="9699"/>
                </a:cubicBezTo>
                <a:cubicBezTo>
                  <a:pt x="10385" y="9707"/>
                  <a:pt x="10352" y="9715"/>
                  <a:pt x="10319" y="9723"/>
                </a:cubicBezTo>
                <a:cubicBezTo>
                  <a:pt x="10538" y="9763"/>
                  <a:pt x="10632" y="9783"/>
                  <a:pt x="10740" y="9947"/>
                </a:cubicBezTo>
                <a:cubicBezTo>
                  <a:pt x="10485" y="10079"/>
                  <a:pt x="10311" y="10108"/>
                  <a:pt x="10021" y="10145"/>
                </a:cubicBezTo>
              </a:path>
              <a:path w="4193" h="2332">
                <a:moveTo>
                  <a:pt x="9426" y="10542"/>
                </a:moveTo>
                <a:cubicBezTo>
                  <a:pt x="10106" y="10434"/>
                  <a:pt x="10746" y="10317"/>
                  <a:pt x="11435" y="10344"/>
                </a:cubicBezTo>
              </a:path>
              <a:path w="4193" h="2332">
                <a:moveTo>
                  <a:pt x="9897" y="10691"/>
                </a:moveTo>
                <a:cubicBezTo>
                  <a:pt x="9880" y="11033"/>
                  <a:pt x="9832" y="11332"/>
                  <a:pt x="9723" y="11658"/>
                </a:cubicBezTo>
              </a:path>
              <a:path w="4193" h="2332">
                <a:moveTo>
                  <a:pt x="10443" y="10914"/>
                </a:moveTo>
                <a:cubicBezTo>
                  <a:pt x="10220" y="11137"/>
                  <a:pt x="10175" y="11125"/>
                  <a:pt x="10220" y="11410"/>
                </a:cubicBezTo>
                <a:cubicBezTo>
                  <a:pt x="10391" y="11380"/>
                  <a:pt x="11175" y="11086"/>
                  <a:pt x="10616" y="10889"/>
                </a:cubicBezTo>
                <a:cubicBezTo>
                  <a:pt x="10533" y="10889"/>
                  <a:pt x="10451" y="10889"/>
                  <a:pt x="10368" y="10889"/>
                </a:cubicBezTo>
              </a:path>
              <a:path w="4193" h="2332">
                <a:moveTo>
                  <a:pt x="11410" y="10344"/>
                </a:moveTo>
                <a:cubicBezTo>
                  <a:pt x="11583" y="10421"/>
                  <a:pt x="11667" y="10543"/>
                  <a:pt x="11782" y="10691"/>
                </a:cubicBezTo>
              </a:path>
              <a:path w="4193" h="2332">
                <a:moveTo>
                  <a:pt x="11683" y="10492"/>
                </a:moveTo>
                <a:cubicBezTo>
                  <a:pt x="11613" y="10656"/>
                  <a:pt x="11592" y="10704"/>
                  <a:pt x="11559" y="10815"/>
                </a:cubicBezTo>
              </a:path>
              <a:path w="4193" h="2332">
                <a:moveTo>
                  <a:pt x="12080" y="10046"/>
                </a:moveTo>
                <a:cubicBezTo>
                  <a:pt x="12092" y="10162"/>
                  <a:pt x="12111" y="10277"/>
                  <a:pt x="12129" y="10393"/>
                </a:cubicBezTo>
              </a:path>
              <a:path w="4193" h="2332">
                <a:moveTo>
                  <a:pt x="12303" y="9971"/>
                </a:moveTo>
                <a:cubicBezTo>
                  <a:pt x="12281" y="10148"/>
                  <a:pt x="12264" y="10194"/>
                  <a:pt x="12328" y="10294"/>
                </a:cubicBezTo>
                <a:cubicBezTo>
                  <a:pt x="12442" y="10240"/>
                  <a:pt x="12793" y="9941"/>
                  <a:pt x="12452" y="9872"/>
                </a:cubicBezTo>
                <a:cubicBezTo>
                  <a:pt x="12402" y="9889"/>
                  <a:pt x="12353" y="9905"/>
                  <a:pt x="12303" y="9922"/>
                </a:cubicBezTo>
              </a:path>
              <a:path w="4193" h="2332">
                <a:moveTo>
                  <a:pt x="12204" y="10517"/>
                </a:moveTo>
                <a:cubicBezTo>
                  <a:pt x="12462" y="10431"/>
                  <a:pt x="12709" y="10350"/>
                  <a:pt x="12973" y="10294"/>
                </a:cubicBezTo>
              </a:path>
              <a:path w="4193" h="2332">
                <a:moveTo>
                  <a:pt x="12378" y="10691"/>
                </a:moveTo>
                <a:cubicBezTo>
                  <a:pt x="12329" y="10907"/>
                  <a:pt x="12302" y="11115"/>
                  <a:pt x="12278" y="11336"/>
                </a:cubicBezTo>
              </a:path>
              <a:path w="4193" h="2332">
                <a:moveTo>
                  <a:pt x="12526" y="10964"/>
                </a:moveTo>
                <a:cubicBezTo>
                  <a:pt x="12526" y="11103"/>
                  <a:pt x="12502" y="11136"/>
                  <a:pt x="12576" y="11187"/>
                </a:cubicBezTo>
                <a:cubicBezTo>
                  <a:pt x="12739" y="10983"/>
                  <a:pt x="12767" y="10922"/>
                  <a:pt x="12526" y="10815"/>
                </a:cubicBezTo>
              </a:path>
              <a:path w="4193" h="2332">
                <a:moveTo>
                  <a:pt x="13370" y="10393"/>
                </a:moveTo>
                <a:cubicBezTo>
                  <a:pt x="13479" y="10365"/>
                  <a:pt x="13522" y="10353"/>
                  <a:pt x="13593" y="10319"/>
                </a:cubicBezTo>
              </a:path>
              <a:path w="4193" h="2332">
                <a:moveTo>
                  <a:pt x="13419" y="10616"/>
                </a:moveTo>
                <a:cubicBezTo>
                  <a:pt x="13485" y="10591"/>
                  <a:pt x="13552" y="10567"/>
                  <a:pt x="13618" y="105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97320" y="3697200"/>
            <a:ext cx="446400" cy="258840"/>
          </a:xfrm>
          <a:custGeom>
            <a:avLst/>
            <a:gdLst/>
            <a:ahLst/>
            <a:rect l="l" t="t" r="r" b="b"/>
            <a:pathLst>
              <a:path w="1242" h="720">
                <a:moveTo>
                  <a:pt x="14461" y="10269"/>
                </a:moveTo>
                <a:cubicBezTo>
                  <a:pt x="14478" y="10519"/>
                  <a:pt x="14466" y="10738"/>
                  <a:pt x="14436" y="10988"/>
                </a:cubicBezTo>
              </a:path>
              <a:path w="1242" h="720">
                <a:moveTo>
                  <a:pt x="14858" y="10319"/>
                </a:moveTo>
                <a:cubicBezTo>
                  <a:pt x="14828" y="10590"/>
                  <a:pt x="14786" y="10690"/>
                  <a:pt x="14932" y="10914"/>
                </a:cubicBezTo>
                <a:cubicBezTo>
                  <a:pt x="15086" y="10833"/>
                  <a:pt x="15344" y="10527"/>
                  <a:pt x="15007" y="10418"/>
                </a:cubicBezTo>
                <a:cubicBezTo>
                  <a:pt x="14957" y="10426"/>
                  <a:pt x="14908" y="10435"/>
                  <a:pt x="14858" y="10443"/>
                </a:cubicBezTo>
              </a:path>
              <a:path w="1242" h="720">
                <a:moveTo>
                  <a:pt x="15354" y="10319"/>
                </a:moveTo>
                <a:cubicBezTo>
                  <a:pt x="15274" y="10545"/>
                  <a:pt x="15247" y="10658"/>
                  <a:pt x="15280" y="10889"/>
                </a:cubicBezTo>
                <a:cubicBezTo>
                  <a:pt x="15409" y="10894"/>
                  <a:pt x="15935" y="10708"/>
                  <a:pt x="15602" y="10492"/>
                </a:cubicBezTo>
                <a:cubicBezTo>
                  <a:pt x="15404" y="10468"/>
                  <a:pt x="15337" y="10460"/>
                  <a:pt x="15205" y="1049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4760" y="3286080"/>
            <a:ext cx="1169640" cy="519120"/>
          </a:xfrm>
          <a:custGeom>
            <a:avLst/>
            <a:gdLst/>
            <a:ahLst/>
            <a:rect l="l" t="t" r="r" b="b"/>
            <a:pathLst>
              <a:path w="3250" h="1440">
                <a:moveTo>
                  <a:pt x="18058" y="9748"/>
                </a:moveTo>
                <a:cubicBezTo>
                  <a:pt x="18138" y="9725"/>
                  <a:pt x="18718" y="9533"/>
                  <a:pt x="18728" y="9723"/>
                </a:cubicBezTo>
                <a:cubicBezTo>
                  <a:pt x="18632" y="9866"/>
                  <a:pt x="18604" y="9912"/>
                  <a:pt x="18504" y="9971"/>
                </a:cubicBezTo>
                <a:cubicBezTo>
                  <a:pt x="18722" y="9981"/>
                  <a:pt x="18756" y="9990"/>
                  <a:pt x="18901" y="10120"/>
                </a:cubicBezTo>
                <a:cubicBezTo>
                  <a:pt x="18687" y="10353"/>
                  <a:pt x="18665" y="10374"/>
                  <a:pt x="18355" y="10393"/>
                </a:cubicBezTo>
              </a:path>
              <a:path w="3250" h="1440">
                <a:moveTo>
                  <a:pt x="19100" y="9699"/>
                </a:moveTo>
                <a:cubicBezTo>
                  <a:pt x="19072" y="10014"/>
                  <a:pt x="19048" y="10005"/>
                  <a:pt x="19273" y="10220"/>
                </a:cubicBezTo>
                <a:cubicBezTo>
                  <a:pt x="19485" y="10136"/>
                  <a:pt x="19939" y="9731"/>
                  <a:pt x="19447" y="9575"/>
                </a:cubicBezTo>
                <a:cubicBezTo>
                  <a:pt x="19356" y="9583"/>
                  <a:pt x="19265" y="9591"/>
                  <a:pt x="19174" y="9599"/>
                </a:cubicBezTo>
              </a:path>
              <a:path w="3250" h="1440">
                <a:moveTo>
                  <a:pt x="19695" y="9178"/>
                </a:moveTo>
                <a:cubicBezTo>
                  <a:pt x="19559" y="9350"/>
                  <a:pt x="19534" y="9327"/>
                  <a:pt x="19645" y="9525"/>
                </a:cubicBezTo>
                <a:cubicBezTo>
                  <a:pt x="19787" y="9384"/>
                  <a:pt x="19732" y="9354"/>
                  <a:pt x="19695" y="9153"/>
                </a:cubicBezTo>
                <a:cubicBezTo>
                  <a:pt x="20129" y="9132"/>
                  <a:pt x="20135" y="9351"/>
                  <a:pt x="20067" y="9748"/>
                </a:cubicBezTo>
                <a:cubicBezTo>
                  <a:pt x="20007" y="9949"/>
                  <a:pt x="20004" y="9988"/>
                  <a:pt x="19943" y="10096"/>
                </a:cubicBezTo>
              </a:path>
              <a:path w="3250" h="1440">
                <a:moveTo>
                  <a:pt x="20340" y="9872"/>
                </a:moveTo>
                <a:cubicBezTo>
                  <a:pt x="20326" y="10099"/>
                  <a:pt x="20385" y="10100"/>
                  <a:pt x="20538" y="9947"/>
                </a:cubicBezTo>
                <a:cubicBezTo>
                  <a:pt x="20474" y="9848"/>
                  <a:pt x="20429" y="9823"/>
                  <a:pt x="20315" y="9872"/>
                </a:cubicBezTo>
              </a:path>
              <a:path w="3250" h="1440">
                <a:moveTo>
                  <a:pt x="17289" y="10368"/>
                </a:moveTo>
                <a:cubicBezTo>
                  <a:pt x="17394" y="10342"/>
                  <a:pt x="17480" y="10326"/>
                  <a:pt x="17587" y="10319"/>
                </a:cubicBezTo>
              </a:path>
              <a:path w="3250" h="1440">
                <a:moveTo>
                  <a:pt x="17438" y="10567"/>
                </a:moveTo>
                <a:cubicBezTo>
                  <a:pt x="17488" y="10550"/>
                  <a:pt x="17537" y="10534"/>
                  <a:pt x="17587" y="1051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81760" y="3303720"/>
            <a:ext cx="534960" cy="403200"/>
          </a:xfrm>
          <a:custGeom>
            <a:avLst/>
            <a:gdLst/>
            <a:ahLst/>
            <a:rect l="l" t="t" r="r" b="b"/>
            <a:pathLst>
              <a:path w="1489" h="1117">
                <a:moveTo>
                  <a:pt x="14114" y="10294"/>
                </a:moveTo>
                <a:cubicBezTo>
                  <a:pt x="14575" y="10195"/>
                  <a:pt x="15006" y="10127"/>
                  <a:pt x="15478" y="10120"/>
                </a:cubicBezTo>
                <a:cubicBezTo>
                  <a:pt x="15519" y="10120"/>
                  <a:pt x="15561" y="10120"/>
                  <a:pt x="15602" y="10120"/>
                </a:cubicBezTo>
              </a:path>
              <a:path w="1489" h="1117">
                <a:moveTo>
                  <a:pt x="14337" y="9500"/>
                </a:moveTo>
                <a:cubicBezTo>
                  <a:pt x="14414" y="9446"/>
                  <a:pt x="14710" y="9293"/>
                  <a:pt x="14585" y="9550"/>
                </a:cubicBezTo>
                <a:cubicBezTo>
                  <a:pt x="14496" y="9661"/>
                  <a:pt x="14477" y="9696"/>
                  <a:pt x="14387" y="9723"/>
                </a:cubicBezTo>
                <a:cubicBezTo>
                  <a:pt x="14556" y="9651"/>
                  <a:pt x="14610" y="9625"/>
                  <a:pt x="14734" y="9674"/>
                </a:cubicBezTo>
                <a:cubicBezTo>
                  <a:pt x="14705" y="9969"/>
                  <a:pt x="14550" y="9971"/>
                  <a:pt x="14263" y="9971"/>
                </a:cubicBezTo>
              </a:path>
              <a:path w="1489" h="1117">
                <a:moveTo>
                  <a:pt x="15007" y="9178"/>
                </a:moveTo>
                <a:cubicBezTo>
                  <a:pt x="14922" y="9292"/>
                  <a:pt x="14595" y="9837"/>
                  <a:pt x="15007" y="9823"/>
                </a:cubicBezTo>
                <a:cubicBezTo>
                  <a:pt x="15513" y="9805"/>
                  <a:pt x="15281" y="9393"/>
                  <a:pt x="15007" y="930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8640" y="4071960"/>
            <a:ext cx="1635120" cy="608040"/>
          </a:xfrm>
          <a:custGeom>
            <a:avLst/>
            <a:gdLst/>
            <a:ahLst/>
            <a:rect l="l" t="t" r="r" b="b"/>
            <a:pathLst>
              <a:path w="4540" h="1688">
                <a:moveTo>
                  <a:pt x="19248" y="11311"/>
                </a:moveTo>
                <a:cubicBezTo>
                  <a:pt x="19359" y="11311"/>
                  <a:pt x="19712" y="11242"/>
                  <a:pt x="19621" y="11460"/>
                </a:cubicBezTo>
                <a:cubicBezTo>
                  <a:pt x="19497" y="11607"/>
                  <a:pt x="19458" y="11656"/>
                  <a:pt x="19323" y="11683"/>
                </a:cubicBezTo>
                <a:cubicBezTo>
                  <a:pt x="19518" y="11689"/>
                  <a:pt x="19620" y="11670"/>
                  <a:pt x="19745" y="11782"/>
                </a:cubicBezTo>
                <a:cubicBezTo>
                  <a:pt x="19639" y="11914"/>
                  <a:pt x="19597" y="11959"/>
                  <a:pt x="19472" y="11981"/>
                </a:cubicBezTo>
              </a:path>
              <a:path w="4540" h="1688">
                <a:moveTo>
                  <a:pt x="19025" y="12254"/>
                </a:moveTo>
                <a:cubicBezTo>
                  <a:pt x="19511" y="12111"/>
                  <a:pt x="19897" y="11973"/>
                  <a:pt x="20389" y="12080"/>
                </a:cubicBezTo>
              </a:path>
              <a:path w="4540" h="1688">
                <a:moveTo>
                  <a:pt x="19199" y="12402"/>
                </a:moveTo>
                <a:cubicBezTo>
                  <a:pt x="19199" y="12592"/>
                  <a:pt x="19199" y="12783"/>
                  <a:pt x="19199" y="12973"/>
                </a:cubicBezTo>
              </a:path>
              <a:path w="4540" h="1688">
                <a:moveTo>
                  <a:pt x="19422" y="12601"/>
                </a:moveTo>
                <a:cubicBezTo>
                  <a:pt x="19451" y="12763"/>
                  <a:pt x="19739" y="13136"/>
                  <a:pt x="19844" y="12750"/>
                </a:cubicBezTo>
                <a:cubicBezTo>
                  <a:pt x="19900" y="12544"/>
                  <a:pt x="19605" y="12529"/>
                  <a:pt x="19496" y="12502"/>
                </a:cubicBezTo>
              </a:path>
              <a:path w="4540" h="1688">
                <a:moveTo>
                  <a:pt x="20588" y="12179"/>
                </a:moveTo>
                <a:cubicBezTo>
                  <a:pt x="20638" y="12171"/>
                  <a:pt x="20687" y="12162"/>
                  <a:pt x="20737" y="12154"/>
                </a:cubicBezTo>
              </a:path>
              <a:path w="4540" h="1688">
                <a:moveTo>
                  <a:pt x="20563" y="12427"/>
                </a:moveTo>
                <a:cubicBezTo>
                  <a:pt x="20629" y="12411"/>
                  <a:pt x="20696" y="12394"/>
                  <a:pt x="20762" y="12378"/>
                </a:cubicBezTo>
              </a:path>
              <a:path w="4540" h="1688">
                <a:moveTo>
                  <a:pt x="21282" y="12378"/>
                </a:moveTo>
                <a:cubicBezTo>
                  <a:pt x="21282" y="12457"/>
                  <a:pt x="21273" y="12566"/>
                  <a:pt x="21406" y="12477"/>
                </a:cubicBezTo>
                <a:cubicBezTo>
                  <a:pt x="21487" y="12422"/>
                  <a:pt x="21350" y="12412"/>
                  <a:pt x="21282" y="12502"/>
                </a:cubicBezTo>
              </a:path>
              <a:path w="4540" h="1688">
                <a:moveTo>
                  <a:pt x="21580" y="11956"/>
                </a:moveTo>
                <a:cubicBezTo>
                  <a:pt x="21710" y="11908"/>
                  <a:pt x="21749" y="11886"/>
                  <a:pt x="21878" y="11906"/>
                </a:cubicBezTo>
                <a:cubicBezTo>
                  <a:pt x="21793" y="12158"/>
                  <a:pt x="21813" y="12030"/>
                  <a:pt x="22027" y="12129"/>
                </a:cubicBezTo>
                <a:cubicBezTo>
                  <a:pt x="22311" y="12261"/>
                  <a:pt x="21929" y="12343"/>
                  <a:pt x="21828" y="12353"/>
                </a:cubicBezTo>
              </a:path>
              <a:path w="4540" h="1688">
                <a:moveTo>
                  <a:pt x="21506" y="12774"/>
                </a:moveTo>
                <a:cubicBezTo>
                  <a:pt x="21566" y="12885"/>
                  <a:pt x="21656" y="12995"/>
                  <a:pt x="21803" y="12998"/>
                </a:cubicBezTo>
                <a:cubicBezTo>
                  <a:pt x="22029" y="13002"/>
                  <a:pt x="22299" y="12889"/>
                  <a:pt x="22473" y="12750"/>
                </a:cubicBezTo>
                <a:cubicBezTo>
                  <a:pt x="22535" y="12687"/>
                  <a:pt x="22552" y="12677"/>
                  <a:pt x="22572" y="12626"/>
                </a:cubicBezTo>
                <a:cubicBezTo>
                  <a:pt x="22526" y="12486"/>
                  <a:pt x="22563" y="12759"/>
                  <a:pt x="22572" y="12774"/>
                </a:cubicBezTo>
                <a:cubicBezTo>
                  <a:pt x="22644" y="12898"/>
                  <a:pt x="22821" y="12907"/>
                  <a:pt x="22944" y="12874"/>
                </a:cubicBezTo>
                <a:cubicBezTo>
                  <a:pt x="23078" y="12838"/>
                  <a:pt x="23312" y="12745"/>
                  <a:pt x="23366" y="12601"/>
                </a:cubicBezTo>
                <a:cubicBezTo>
                  <a:pt x="23379" y="12567"/>
                  <a:pt x="23384" y="12444"/>
                  <a:pt x="23391" y="12402"/>
                </a:cubicBezTo>
                <a:cubicBezTo>
                  <a:pt x="23391" y="12353"/>
                  <a:pt x="23391" y="12336"/>
                  <a:pt x="23391" y="12303"/>
                </a:cubicBezTo>
                <a:cubicBezTo>
                  <a:pt x="23301" y="12393"/>
                  <a:pt x="23261" y="12586"/>
                  <a:pt x="23465" y="12477"/>
                </a:cubicBezTo>
                <a:cubicBezTo>
                  <a:pt x="23593" y="12408"/>
                  <a:pt x="23553" y="12346"/>
                  <a:pt x="23515" y="12254"/>
                </a:cubicBezTo>
                <a:cubicBezTo>
                  <a:pt x="23358" y="12285"/>
                  <a:pt x="23373" y="12270"/>
                  <a:pt x="23341" y="12427"/>
                </a:cubicBezTo>
                <a:cubicBezTo>
                  <a:pt x="23387" y="12419"/>
                  <a:pt x="23633" y="12319"/>
                  <a:pt x="23465" y="12278"/>
                </a:cubicBezTo>
                <a:cubicBezTo>
                  <a:pt x="23293" y="12236"/>
                  <a:pt x="23331" y="12343"/>
                  <a:pt x="23366" y="12402"/>
                </a:cubicBezTo>
              </a:path>
              <a:path w="4540" h="1688">
                <a:moveTo>
                  <a:pt x="22671" y="11782"/>
                </a:moveTo>
                <a:cubicBezTo>
                  <a:pt x="22607" y="11821"/>
                  <a:pt x="22514" y="11979"/>
                  <a:pt x="22696" y="11931"/>
                </a:cubicBezTo>
                <a:cubicBezTo>
                  <a:pt x="22917" y="11873"/>
                  <a:pt x="22733" y="11811"/>
                  <a:pt x="22597" y="1183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82960" y="4776840"/>
            <a:ext cx="581040" cy="768240"/>
          </a:xfrm>
          <a:custGeom>
            <a:avLst/>
            <a:gdLst/>
            <a:ahLst/>
            <a:rect l="l" t="t" r="r" b="b"/>
            <a:pathLst>
              <a:path w="1613" h="2134">
                <a:moveTo>
                  <a:pt x="8657" y="13395"/>
                </a:moveTo>
                <a:cubicBezTo>
                  <a:pt x="8816" y="13299"/>
                  <a:pt x="8833" y="13296"/>
                  <a:pt x="9004" y="13320"/>
                </a:cubicBezTo>
                <a:cubicBezTo>
                  <a:pt x="8982" y="13431"/>
                  <a:pt x="8767" y="13863"/>
                  <a:pt x="8806" y="13643"/>
                </a:cubicBezTo>
                <a:cubicBezTo>
                  <a:pt x="8954" y="13659"/>
                  <a:pt x="9380" y="13736"/>
                  <a:pt x="9103" y="13990"/>
                </a:cubicBezTo>
                <a:cubicBezTo>
                  <a:pt x="8946" y="14134"/>
                  <a:pt x="8788" y="14091"/>
                  <a:pt x="8607" y="14064"/>
                </a:cubicBezTo>
              </a:path>
              <a:path w="1613" h="2134">
                <a:moveTo>
                  <a:pt x="8285" y="14486"/>
                </a:moveTo>
                <a:cubicBezTo>
                  <a:pt x="8773" y="14382"/>
                  <a:pt x="9253" y="14224"/>
                  <a:pt x="9748" y="14163"/>
                </a:cubicBezTo>
                <a:cubicBezTo>
                  <a:pt x="9864" y="14163"/>
                  <a:pt x="9914" y="14130"/>
                  <a:pt x="9897" y="14213"/>
                </a:cubicBezTo>
              </a:path>
              <a:path w="1613" h="2134">
                <a:moveTo>
                  <a:pt x="9500" y="14461"/>
                </a:moveTo>
                <a:cubicBezTo>
                  <a:pt x="9344" y="14562"/>
                  <a:pt x="9195" y="14666"/>
                  <a:pt x="9079" y="14808"/>
                </a:cubicBezTo>
                <a:cubicBezTo>
                  <a:pt x="9300" y="14844"/>
                  <a:pt x="9899" y="14915"/>
                  <a:pt x="9575" y="15304"/>
                </a:cubicBezTo>
                <a:cubicBezTo>
                  <a:pt x="9509" y="15337"/>
                  <a:pt x="9442" y="15371"/>
                  <a:pt x="9376" y="15404"/>
                </a:cubicBezTo>
                <a:cubicBezTo>
                  <a:pt x="9171" y="15177"/>
                  <a:pt x="9538" y="14982"/>
                  <a:pt x="9599" y="14684"/>
                </a:cubicBezTo>
                <a:cubicBezTo>
                  <a:pt x="9543" y="14628"/>
                  <a:pt x="9517" y="14612"/>
                  <a:pt x="9451" y="1463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6240" y="4697280"/>
            <a:ext cx="1643040" cy="2081520"/>
          </a:xfrm>
          <a:custGeom>
            <a:avLst/>
            <a:gdLst/>
            <a:ahLst/>
            <a:rect l="l" t="t" r="r" b="b"/>
            <a:pathLst>
              <a:path w="4565" h="5781">
                <a:moveTo>
                  <a:pt x="12774" y="14263"/>
                </a:moveTo>
                <a:cubicBezTo>
                  <a:pt x="12883" y="14227"/>
                  <a:pt x="13205" y="14092"/>
                  <a:pt x="13246" y="14312"/>
                </a:cubicBezTo>
                <a:cubicBezTo>
                  <a:pt x="13192" y="14473"/>
                  <a:pt x="13166" y="14530"/>
                  <a:pt x="13047" y="14585"/>
                </a:cubicBezTo>
                <a:cubicBezTo>
                  <a:pt x="13022" y="14593"/>
                  <a:pt x="12998" y="14602"/>
                  <a:pt x="12973" y="14610"/>
                </a:cubicBezTo>
                <a:cubicBezTo>
                  <a:pt x="13143" y="14585"/>
                  <a:pt x="13563" y="14596"/>
                  <a:pt x="13271" y="14883"/>
                </a:cubicBezTo>
                <a:cubicBezTo>
                  <a:pt x="13063" y="15087"/>
                  <a:pt x="12899" y="15067"/>
                  <a:pt x="12650" y="15032"/>
                </a:cubicBezTo>
              </a:path>
              <a:path w="4565" h="5781">
                <a:moveTo>
                  <a:pt x="12502" y="15429"/>
                </a:moveTo>
                <a:cubicBezTo>
                  <a:pt x="12590" y="15013"/>
                  <a:pt x="12526" y="14739"/>
                  <a:pt x="12278" y="14387"/>
                </a:cubicBezTo>
                <a:cubicBezTo>
                  <a:pt x="12245" y="14354"/>
                  <a:pt x="12212" y="14321"/>
                  <a:pt x="12179" y="14288"/>
                </a:cubicBezTo>
                <a:cubicBezTo>
                  <a:pt x="12514" y="14036"/>
                  <a:pt x="13125" y="14026"/>
                  <a:pt x="13543" y="13965"/>
                </a:cubicBezTo>
                <a:cubicBezTo>
                  <a:pt x="13932" y="13908"/>
                  <a:pt x="14230" y="13878"/>
                  <a:pt x="14610" y="13915"/>
                </a:cubicBezTo>
              </a:path>
              <a:path w="4565" h="5781">
                <a:moveTo>
                  <a:pt x="11609" y="14610"/>
                </a:moveTo>
                <a:cubicBezTo>
                  <a:pt x="11551" y="14676"/>
                  <a:pt x="11493" y="14742"/>
                  <a:pt x="11435" y="14808"/>
                </a:cubicBezTo>
                <a:cubicBezTo>
                  <a:pt x="11682" y="14955"/>
                  <a:pt x="11969" y="14921"/>
                  <a:pt x="12179" y="15131"/>
                </a:cubicBezTo>
                <a:cubicBezTo>
                  <a:pt x="11712" y="15418"/>
                  <a:pt x="11756" y="15159"/>
                  <a:pt x="11906" y="14709"/>
                </a:cubicBezTo>
                <a:cubicBezTo>
                  <a:pt x="11982" y="14520"/>
                  <a:pt x="12034" y="14497"/>
                  <a:pt x="11981" y="14387"/>
                </a:cubicBezTo>
              </a:path>
              <a:path w="4565" h="5781">
                <a:moveTo>
                  <a:pt x="13444" y="14957"/>
                </a:moveTo>
                <a:cubicBezTo>
                  <a:pt x="13508" y="14915"/>
                  <a:pt x="13533" y="14912"/>
                  <a:pt x="13519" y="14858"/>
                </a:cubicBezTo>
                <a:cubicBezTo>
                  <a:pt x="13457" y="14874"/>
                  <a:pt x="13446" y="14867"/>
                  <a:pt x="13419" y="14932"/>
                </a:cubicBezTo>
              </a:path>
              <a:path w="4565" h="5781">
                <a:moveTo>
                  <a:pt x="13295" y="13891"/>
                </a:moveTo>
                <a:cubicBezTo>
                  <a:pt x="13280" y="13859"/>
                  <a:pt x="13273" y="13899"/>
                  <a:pt x="13345" y="13841"/>
                </a:cubicBezTo>
              </a:path>
              <a:path w="4565" h="5781">
                <a:moveTo>
                  <a:pt x="13990" y="14312"/>
                </a:moveTo>
                <a:cubicBezTo>
                  <a:pt x="13783" y="14244"/>
                  <a:pt x="13694" y="14502"/>
                  <a:pt x="13742" y="14709"/>
                </a:cubicBezTo>
                <a:cubicBezTo>
                  <a:pt x="13767" y="14734"/>
                  <a:pt x="13791" y="14759"/>
                  <a:pt x="13816" y="14784"/>
                </a:cubicBezTo>
                <a:cubicBezTo>
                  <a:pt x="14117" y="14611"/>
                  <a:pt x="14079" y="14506"/>
                  <a:pt x="13791" y="14362"/>
                </a:cubicBezTo>
              </a:path>
              <a:path w="4565" h="5781">
                <a:moveTo>
                  <a:pt x="11534" y="14635"/>
                </a:moveTo>
                <a:cubicBezTo>
                  <a:pt x="11734" y="14602"/>
                  <a:pt x="11921" y="14491"/>
                  <a:pt x="12129" y="14486"/>
                </a:cubicBezTo>
                <a:cubicBezTo>
                  <a:pt x="12146" y="14494"/>
                  <a:pt x="12162" y="14503"/>
                  <a:pt x="12179" y="14511"/>
                </a:cubicBezTo>
              </a:path>
              <a:path w="4565" h="5781">
                <a:moveTo>
                  <a:pt x="13370" y="13940"/>
                </a:moveTo>
                <a:cubicBezTo>
                  <a:pt x="13348" y="13897"/>
                  <a:pt x="13345" y="13876"/>
                  <a:pt x="13320" y="13915"/>
                </a:cubicBezTo>
              </a:path>
              <a:path w="4565" h="5781">
                <a:moveTo>
                  <a:pt x="13444" y="13295"/>
                </a:moveTo>
                <a:cubicBezTo>
                  <a:pt x="13553" y="13197"/>
                  <a:pt x="13566" y="13203"/>
                  <a:pt x="13717" y="13221"/>
                </a:cubicBezTo>
                <a:cubicBezTo>
                  <a:pt x="13699" y="13324"/>
                  <a:pt x="13512" y="13590"/>
                  <a:pt x="13593" y="13469"/>
                </a:cubicBezTo>
                <a:cubicBezTo>
                  <a:pt x="13835" y="13509"/>
                  <a:pt x="13951" y="13680"/>
                  <a:pt x="13618" y="13791"/>
                </a:cubicBezTo>
                <a:cubicBezTo>
                  <a:pt x="13568" y="13791"/>
                  <a:pt x="13519" y="13791"/>
                  <a:pt x="13469" y="13791"/>
                </a:cubicBezTo>
              </a:path>
              <a:path w="4565" h="5781">
                <a:moveTo>
                  <a:pt x="13122" y="15131"/>
                </a:moveTo>
                <a:cubicBezTo>
                  <a:pt x="13229" y="14992"/>
                  <a:pt x="13469" y="14979"/>
                  <a:pt x="13469" y="15230"/>
                </a:cubicBezTo>
                <a:cubicBezTo>
                  <a:pt x="13469" y="15472"/>
                  <a:pt x="13293" y="15492"/>
                  <a:pt x="13122" y="15528"/>
                </a:cubicBezTo>
                <a:cubicBezTo>
                  <a:pt x="13202" y="15302"/>
                  <a:pt x="13299" y="15300"/>
                  <a:pt x="13519" y="15379"/>
                </a:cubicBezTo>
                <a:cubicBezTo>
                  <a:pt x="13535" y="15387"/>
                  <a:pt x="13552" y="15396"/>
                  <a:pt x="13568" y="15404"/>
                </a:cubicBezTo>
              </a:path>
              <a:path w="4565" h="5781">
                <a:moveTo>
                  <a:pt x="13767" y="15032"/>
                </a:moveTo>
                <a:cubicBezTo>
                  <a:pt x="13773" y="15083"/>
                  <a:pt x="13811" y="15344"/>
                  <a:pt x="13940" y="15255"/>
                </a:cubicBezTo>
                <a:cubicBezTo>
                  <a:pt x="13973" y="15214"/>
                  <a:pt x="14006" y="15172"/>
                  <a:pt x="14039" y="15131"/>
                </a:cubicBezTo>
              </a:path>
              <a:path w="4565" h="5781">
                <a:moveTo>
                  <a:pt x="14015" y="14833"/>
                </a:moveTo>
                <a:cubicBezTo>
                  <a:pt x="14015" y="15074"/>
                  <a:pt x="14031" y="15312"/>
                  <a:pt x="14039" y="15553"/>
                </a:cubicBezTo>
              </a:path>
              <a:path w="4565" h="5781">
                <a:moveTo>
                  <a:pt x="12650" y="15925"/>
                </a:moveTo>
                <a:cubicBezTo>
                  <a:pt x="13291" y="15733"/>
                  <a:pt x="13901" y="15601"/>
                  <a:pt x="14560" y="15503"/>
                </a:cubicBezTo>
                <a:cubicBezTo>
                  <a:pt x="14593" y="15495"/>
                  <a:pt x="14627" y="15486"/>
                  <a:pt x="14660" y="15478"/>
                </a:cubicBezTo>
              </a:path>
              <a:path w="4565" h="5781">
                <a:moveTo>
                  <a:pt x="12576" y="15478"/>
                </a:moveTo>
                <a:cubicBezTo>
                  <a:pt x="12643" y="15478"/>
                  <a:pt x="12677" y="15474"/>
                  <a:pt x="12725" y="15453"/>
                </a:cubicBezTo>
              </a:path>
              <a:path w="4565" h="5781">
                <a:moveTo>
                  <a:pt x="13965" y="15825"/>
                </a:moveTo>
                <a:cubicBezTo>
                  <a:pt x="13940" y="16027"/>
                  <a:pt x="13848" y="16217"/>
                  <a:pt x="13915" y="16396"/>
                </a:cubicBezTo>
                <a:cubicBezTo>
                  <a:pt x="14189" y="16344"/>
                  <a:pt x="14253" y="16246"/>
                  <a:pt x="14312" y="15974"/>
                </a:cubicBezTo>
                <a:cubicBezTo>
                  <a:pt x="14108" y="16089"/>
                  <a:pt x="14066" y="16194"/>
                  <a:pt x="14114" y="16421"/>
                </a:cubicBezTo>
              </a:path>
              <a:path w="4565" h="5781">
                <a:moveTo>
                  <a:pt x="14511" y="14163"/>
                </a:moveTo>
                <a:cubicBezTo>
                  <a:pt x="14459" y="14086"/>
                  <a:pt x="14359" y="14075"/>
                  <a:pt x="14337" y="14213"/>
                </a:cubicBezTo>
                <a:cubicBezTo>
                  <a:pt x="14300" y="14447"/>
                  <a:pt x="14347" y="14511"/>
                  <a:pt x="14511" y="14610"/>
                </a:cubicBezTo>
                <a:cubicBezTo>
                  <a:pt x="14635" y="14316"/>
                  <a:pt x="14661" y="14123"/>
                  <a:pt x="14312" y="14139"/>
                </a:cubicBezTo>
              </a:path>
              <a:path w="4565" h="5781">
                <a:moveTo>
                  <a:pt x="14461" y="14883"/>
                </a:moveTo>
                <a:cubicBezTo>
                  <a:pt x="14461" y="15057"/>
                  <a:pt x="14482" y="15230"/>
                  <a:pt x="14486" y="15404"/>
                </a:cubicBezTo>
                <a:cubicBezTo>
                  <a:pt x="14486" y="15420"/>
                  <a:pt x="14486" y="15437"/>
                  <a:pt x="14486" y="15453"/>
                </a:cubicBezTo>
              </a:path>
              <a:path w="4565" h="5781">
                <a:moveTo>
                  <a:pt x="14337" y="15180"/>
                </a:moveTo>
                <a:cubicBezTo>
                  <a:pt x="14378" y="15344"/>
                  <a:pt x="14417" y="15436"/>
                  <a:pt x="14511" y="15577"/>
                </a:cubicBezTo>
                <a:cubicBezTo>
                  <a:pt x="14562" y="15397"/>
                  <a:pt x="14579" y="15333"/>
                  <a:pt x="14585" y="15205"/>
                </a:cubicBezTo>
              </a:path>
              <a:path w="4565" h="5781">
                <a:moveTo>
                  <a:pt x="14536" y="15825"/>
                </a:moveTo>
                <a:cubicBezTo>
                  <a:pt x="14403" y="15845"/>
                  <a:pt x="14432" y="16133"/>
                  <a:pt x="14511" y="16272"/>
                </a:cubicBezTo>
                <a:cubicBezTo>
                  <a:pt x="14652" y="16520"/>
                  <a:pt x="14698" y="15948"/>
                  <a:pt x="14660" y="15850"/>
                </a:cubicBezTo>
              </a:path>
              <a:path w="4565" h="5781">
                <a:moveTo>
                  <a:pt x="13965" y="13196"/>
                </a:moveTo>
                <a:cubicBezTo>
                  <a:pt x="13988" y="13242"/>
                  <a:pt x="14008" y="13280"/>
                  <a:pt x="14039" y="13320"/>
                </a:cubicBezTo>
                <a:cubicBezTo>
                  <a:pt x="14004" y="13201"/>
                  <a:pt x="13984" y="13113"/>
                  <a:pt x="14139" y="13097"/>
                </a:cubicBezTo>
                <a:cubicBezTo>
                  <a:pt x="14276" y="13083"/>
                  <a:pt x="14358" y="13094"/>
                  <a:pt x="14486" y="13047"/>
                </a:cubicBezTo>
                <a:cubicBezTo>
                  <a:pt x="14469" y="13307"/>
                  <a:pt x="14409" y="13559"/>
                  <a:pt x="14387" y="13816"/>
                </a:cubicBezTo>
              </a:path>
              <a:path w="4565" h="5781">
                <a:moveTo>
                  <a:pt x="14163" y="16247"/>
                </a:moveTo>
                <a:cubicBezTo>
                  <a:pt x="14067" y="16292"/>
                  <a:pt x="13954" y="16321"/>
                  <a:pt x="13866" y="16371"/>
                </a:cubicBezTo>
              </a:path>
              <a:path w="4565" h="5781">
                <a:moveTo>
                  <a:pt x="14263" y="16669"/>
                </a:moveTo>
                <a:cubicBezTo>
                  <a:pt x="14159" y="16624"/>
                  <a:pt x="14005" y="16654"/>
                  <a:pt x="13891" y="16694"/>
                </a:cubicBezTo>
                <a:cubicBezTo>
                  <a:pt x="13883" y="16702"/>
                  <a:pt x="13874" y="16710"/>
                  <a:pt x="13866" y="16718"/>
                </a:cubicBezTo>
                <a:cubicBezTo>
                  <a:pt x="13871" y="16778"/>
                  <a:pt x="13863" y="16877"/>
                  <a:pt x="13940" y="16892"/>
                </a:cubicBezTo>
                <a:cubicBezTo>
                  <a:pt x="14115" y="16926"/>
                  <a:pt x="14169" y="16823"/>
                  <a:pt x="14312" y="16942"/>
                </a:cubicBezTo>
                <a:cubicBezTo>
                  <a:pt x="14215" y="17138"/>
                  <a:pt x="14125" y="17111"/>
                  <a:pt x="13915" y="17066"/>
                </a:cubicBezTo>
              </a:path>
              <a:path w="4565" h="5781">
                <a:moveTo>
                  <a:pt x="14511" y="16669"/>
                </a:moveTo>
                <a:cubicBezTo>
                  <a:pt x="14519" y="16719"/>
                  <a:pt x="14542" y="17124"/>
                  <a:pt x="14660" y="17090"/>
                </a:cubicBezTo>
                <a:cubicBezTo>
                  <a:pt x="14819" y="17045"/>
                  <a:pt x="14790" y="16907"/>
                  <a:pt x="14784" y="16793"/>
                </a:cubicBezTo>
                <a:cubicBezTo>
                  <a:pt x="14626" y="16872"/>
                  <a:pt x="14657" y="16917"/>
                  <a:pt x="14610" y="17090"/>
                </a:cubicBezTo>
              </a:path>
              <a:path w="4565" h="5781">
                <a:moveTo>
                  <a:pt x="13345" y="17587"/>
                </a:moveTo>
                <a:cubicBezTo>
                  <a:pt x="13832" y="17495"/>
                  <a:pt x="14320" y="17403"/>
                  <a:pt x="14808" y="17314"/>
                </a:cubicBezTo>
                <a:cubicBezTo>
                  <a:pt x="14972" y="17284"/>
                  <a:pt x="15101" y="17253"/>
                  <a:pt x="15255" y="17214"/>
                </a:cubicBezTo>
              </a:path>
              <a:path w="4565" h="5781">
                <a:moveTo>
                  <a:pt x="13246" y="16942"/>
                </a:moveTo>
                <a:cubicBezTo>
                  <a:pt x="13313" y="16942"/>
                  <a:pt x="13347" y="16946"/>
                  <a:pt x="13395" y="16966"/>
                </a:cubicBezTo>
              </a:path>
              <a:path w="4565" h="5781">
                <a:moveTo>
                  <a:pt x="14560" y="17487"/>
                </a:moveTo>
                <a:cubicBezTo>
                  <a:pt x="14545" y="17605"/>
                  <a:pt x="14517" y="17718"/>
                  <a:pt x="14486" y="17835"/>
                </a:cubicBezTo>
                <a:cubicBezTo>
                  <a:pt x="14631" y="17804"/>
                  <a:pt x="14762" y="17774"/>
                  <a:pt x="14908" y="17760"/>
                </a:cubicBezTo>
              </a:path>
              <a:path w="4565" h="5781">
                <a:moveTo>
                  <a:pt x="14858" y="17636"/>
                </a:moveTo>
                <a:cubicBezTo>
                  <a:pt x="14826" y="17790"/>
                  <a:pt x="14796" y="17927"/>
                  <a:pt x="14784" y="18083"/>
                </a:cubicBezTo>
              </a:path>
              <a:path w="4565" h="5781">
                <a:moveTo>
                  <a:pt x="14461" y="13965"/>
                </a:moveTo>
                <a:cubicBezTo>
                  <a:pt x="14728" y="14015"/>
                  <a:pt x="15009" y="13967"/>
                  <a:pt x="15280" y="13940"/>
                </a:cubicBezTo>
                <a:cubicBezTo>
                  <a:pt x="15461" y="13920"/>
                  <a:pt x="15494" y="13911"/>
                  <a:pt x="15602" y="13915"/>
                </a:cubicBezTo>
              </a:path>
              <a:path w="4565" h="5781">
                <a:moveTo>
                  <a:pt x="15007" y="14263"/>
                </a:moveTo>
                <a:cubicBezTo>
                  <a:pt x="14832" y="14290"/>
                  <a:pt x="14688" y="14428"/>
                  <a:pt x="14759" y="14635"/>
                </a:cubicBezTo>
                <a:cubicBezTo>
                  <a:pt x="14784" y="14651"/>
                  <a:pt x="14808" y="14668"/>
                  <a:pt x="14833" y="14684"/>
                </a:cubicBezTo>
                <a:cubicBezTo>
                  <a:pt x="14929" y="14628"/>
                  <a:pt x="15315" y="14221"/>
                  <a:pt x="14932" y="14213"/>
                </a:cubicBezTo>
                <a:cubicBezTo>
                  <a:pt x="14883" y="14238"/>
                  <a:pt x="14833" y="14263"/>
                  <a:pt x="14784" y="14288"/>
                </a:cubicBezTo>
              </a:path>
              <a:path w="4565" h="5781">
                <a:moveTo>
                  <a:pt x="15131" y="14858"/>
                </a:moveTo>
                <a:cubicBezTo>
                  <a:pt x="15196" y="15196"/>
                  <a:pt x="15232" y="15534"/>
                  <a:pt x="15280" y="15875"/>
                </a:cubicBezTo>
                <a:cubicBezTo>
                  <a:pt x="15315" y="16124"/>
                  <a:pt x="15371" y="16371"/>
                  <a:pt x="15404" y="16619"/>
                </a:cubicBezTo>
                <a:cubicBezTo>
                  <a:pt x="15404" y="16636"/>
                  <a:pt x="15404" y="16652"/>
                  <a:pt x="15404" y="16669"/>
                </a:cubicBezTo>
              </a:path>
              <a:path w="4565" h="5781">
                <a:moveTo>
                  <a:pt x="15131" y="16495"/>
                </a:moveTo>
                <a:cubicBezTo>
                  <a:pt x="15158" y="16592"/>
                  <a:pt x="15179" y="16663"/>
                  <a:pt x="15230" y="16743"/>
                </a:cubicBezTo>
                <a:cubicBezTo>
                  <a:pt x="15437" y="16744"/>
                  <a:pt x="15501" y="16555"/>
                  <a:pt x="15627" y="16396"/>
                </a:cubicBezTo>
                <a:cubicBezTo>
                  <a:pt x="15644" y="16379"/>
                  <a:pt x="15660" y="16363"/>
                  <a:pt x="15677" y="16346"/>
                </a:cubicBezTo>
              </a:path>
              <a:path w="4565" h="5781">
                <a:moveTo>
                  <a:pt x="15205" y="17438"/>
                </a:moveTo>
                <a:cubicBezTo>
                  <a:pt x="15129" y="17634"/>
                  <a:pt x="15108" y="17759"/>
                  <a:pt x="15156" y="17959"/>
                </a:cubicBezTo>
                <a:cubicBezTo>
                  <a:pt x="15311" y="17914"/>
                  <a:pt x="15533" y="17744"/>
                  <a:pt x="15404" y="17537"/>
                </a:cubicBezTo>
                <a:cubicBezTo>
                  <a:pt x="15283" y="17464"/>
                  <a:pt x="15245" y="17438"/>
                  <a:pt x="15156" y="17512"/>
                </a:cubicBezTo>
              </a:path>
              <a:path w="4565" h="5781">
                <a:moveTo>
                  <a:pt x="15007" y="13072"/>
                </a:moveTo>
                <a:cubicBezTo>
                  <a:pt x="14911" y="13091"/>
                  <a:pt x="14755" y="13094"/>
                  <a:pt x="14734" y="13196"/>
                </a:cubicBezTo>
                <a:cubicBezTo>
                  <a:pt x="14734" y="13295"/>
                  <a:pt x="14734" y="13312"/>
                  <a:pt x="14734" y="13370"/>
                </a:cubicBezTo>
                <a:cubicBezTo>
                  <a:pt x="14877" y="13303"/>
                  <a:pt x="15162" y="13212"/>
                  <a:pt x="15131" y="13494"/>
                </a:cubicBezTo>
                <a:cubicBezTo>
                  <a:pt x="15100" y="13772"/>
                  <a:pt x="14856" y="13773"/>
                  <a:pt x="14684" y="13692"/>
                </a:cubicBezTo>
              </a:path>
              <a:path w="4565" h="5781">
                <a:moveTo>
                  <a:pt x="14610" y="18132"/>
                </a:moveTo>
                <a:cubicBezTo>
                  <a:pt x="14553" y="18113"/>
                  <a:pt x="14548" y="18289"/>
                  <a:pt x="14536" y="18380"/>
                </a:cubicBezTo>
                <a:cubicBezTo>
                  <a:pt x="14645" y="18373"/>
                  <a:pt x="14748" y="18355"/>
                  <a:pt x="14858" y="18355"/>
                </a:cubicBezTo>
              </a:path>
              <a:path w="4565" h="5781">
                <a:moveTo>
                  <a:pt x="14833" y="18182"/>
                </a:moveTo>
                <a:cubicBezTo>
                  <a:pt x="14822" y="18315"/>
                  <a:pt x="14821" y="18422"/>
                  <a:pt x="14833" y="18554"/>
                </a:cubicBezTo>
              </a:path>
              <a:path w="4565" h="5781">
                <a:moveTo>
                  <a:pt x="15255" y="18182"/>
                </a:moveTo>
                <a:cubicBezTo>
                  <a:pt x="15215" y="18317"/>
                  <a:pt x="15183" y="18397"/>
                  <a:pt x="15205" y="18529"/>
                </a:cubicBezTo>
                <a:cubicBezTo>
                  <a:pt x="15345" y="18521"/>
                  <a:pt x="15545" y="18409"/>
                  <a:pt x="15429" y="18207"/>
                </a:cubicBezTo>
                <a:cubicBezTo>
                  <a:pt x="15344" y="18150"/>
                  <a:pt x="15307" y="18136"/>
                  <a:pt x="15230" y="18182"/>
                </a:cubicBezTo>
              </a:path>
              <a:path w="4565" h="5781">
                <a:moveTo>
                  <a:pt x="13915" y="18529"/>
                </a:moveTo>
                <a:cubicBezTo>
                  <a:pt x="14044" y="18477"/>
                  <a:pt x="14090" y="18460"/>
                  <a:pt x="14188" y="18479"/>
                </a:cubicBezTo>
              </a:path>
              <a:path w="4565" h="5781">
                <a:moveTo>
                  <a:pt x="14511" y="18628"/>
                </a:moveTo>
                <a:cubicBezTo>
                  <a:pt x="14962" y="18583"/>
                  <a:pt x="15403" y="18502"/>
                  <a:pt x="15850" y="18430"/>
                </a:cubicBezTo>
                <a:cubicBezTo>
                  <a:pt x="15900" y="18422"/>
                  <a:pt x="15949" y="18413"/>
                  <a:pt x="15999" y="18405"/>
                </a:cubicBezTo>
              </a:path>
              <a:path w="4565" h="5781">
                <a:moveTo>
                  <a:pt x="15751" y="18653"/>
                </a:moveTo>
                <a:cubicBezTo>
                  <a:pt x="15629" y="18679"/>
                  <a:pt x="15546" y="18698"/>
                  <a:pt x="15503" y="18827"/>
                </a:cubicBezTo>
                <a:cubicBezTo>
                  <a:pt x="15676" y="18817"/>
                  <a:pt x="15759" y="18805"/>
                  <a:pt x="15875" y="18678"/>
                </a:cubicBezTo>
                <a:cubicBezTo>
                  <a:pt x="15752" y="18616"/>
                  <a:pt x="15660" y="18612"/>
                  <a:pt x="15528" y="1867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81840" y="5133960"/>
            <a:ext cx="865080" cy="492120"/>
          </a:xfrm>
          <a:custGeom>
            <a:avLst/>
            <a:gdLst/>
            <a:ahLst/>
            <a:rect l="l" t="t" r="r" b="b"/>
            <a:pathLst>
              <a:path w="2407" h="1365">
                <a:moveTo>
                  <a:pt x="17066" y="14833"/>
                </a:moveTo>
                <a:cubicBezTo>
                  <a:pt x="16920" y="14866"/>
                  <a:pt x="16921" y="14918"/>
                  <a:pt x="16942" y="15056"/>
                </a:cubicBezTo>
                <a:cubicBezTo>
                  <a:pt x="17080" y="14974"/>
                  <a:pt x="17068" y="14935"/>
                  <a:pt x="16892" y="14957"/>
                </a:cubicBezTo>
              </a:path>
              <a:path w="2407" h="1365">
                <a:moveTo>
                  <a:pt x="17363" y="14362"/>
                </a:moveTo>
                <a:cubicBezTo>
                  <a:pt x="17476" y="14357"/>
                  <a:pt x="17921" y="14353"/>
                  <a:pt x="17661" y="14585"/>
                </a:cubicBezTo>
                <a:cubicBezTo>
                  <a:pt x="17611" y="14610"/>
                  <a:pt x="17562" y="14635"/>
                  <a:pt x="17512" y="14660"/>
                </a:cubicBezTo>
                <a:cubicBezTo>
                  <a:pt x="17495" y="14660"/>
                  <a:pt x="17479" y="14660"/>
                  <a:pt x="17462" y="14660"/>
                </a:cubicBezTo>
                <a:cubicBezTo>
                  <a:pt x="17657" y="14631"/>
                  <a:pt x="18059" y="14664"/>
                  <a:pt x="17760" y="14957"/>
                </a:cubicBezTo>
                <a:cubicBezTo>
                  <a:pt x="17584" y="15033"/>
                  <a:pt x="17523" y="15058"/>
                  <a:pt x="17388" y="15032"/>
                </a:cubicBezTo>
              </a:path>
              <a:path w="2407" h="1365">
                <a:moveTo>
                  <a:pt x="17909" y="14362"/>
                </a:moveTo>
                <a:cubicBezTo>
                  <a:pt x="18016" y="14369"/>
                  <a:pt x="18326" y="14241"/>
                  <a:pt x="18405" y="14362"/>
                </a:cubicBezTo>
                <a:cubicBezTo>
                  <a:pt x="18530" y="14553"/>
                  <a:pt x="18366" y="14818"/>
                  <a:pt x="18430" y="15007"/>
                </a:cubicBezTo>
                <a:cubicBezTo>
                  <a:pt x="18438" y="14990"/>
                  <a:pt x="18447" y="14974"/>
                  <a:pt x="18455" y="14957"/>
                </a:cubicBezTo>
              </a:path>
              <a:path w="2407" h="1365">
                <a:moveTo>
                  <a:pt x="19000" y="14263"/>
                </a:moveTo>
                <a:cubicBezTo>
                  <a:pt x="18829" y="14299"/>
                  <a:pt x="18723" y="14272"/>
                  <a:pt x="18728" y="14486"/>
                </a:cubicBezTo>
                <a:cubicBezTo>
                  <a:pt x="18736" y="14527"/>
                  <a:pt x="18744" y="14569"/>
                  <a:pt x="18752" y="14610"/>
                </a:cubicBezTo>
                <a:cubicBezTo>
                  <a:pt x="18852" y="14593"/>
                  <a:pt x="18972" y="14490"/>
                  <a:pt x="19075" y="14511"/>
                </a:cubicBezTo>
                <a:cubicBezTo>
                  <a:pt x="19338" y="14564"/>
                  <a:pt x="19374" y="14906"/>
                  <a:pt x="19100" y="14982"/>
                </a:cubicBezTo>
                <a:cubicBezTo>
                  <a:pt x="18880" y="14982"/>
                  <a:pt x="18808" y="14984"/>
                  <a:pt x="18703" y="14858"/>
                </a:cubicBezTo>
              </a:path>
              <a:path w="2407" h="1365">
                <a:moveTo>
                  <a:pt x="17090" y="15354"/>
                </a:moveTo>
                <a:cubicBezTo>
                  <a:pt x="17234" y="15418"/>
                  <a:pt x="17321" y="15586"/>
                  <a:pt x="17512" y="15627"/>
                </a:cubicBezTo>
                <a:cubicBezTo>
                  <a:pt x="17700" y="15667"/>
                  <a:pt x="17946" y="15585"/>
                  <a:pt x="18033" y="15404"/>
                </a:cubicBezTo>
                <a:cubicBezTo>
                  <a:pt x="18033" y="15387"/>
                  <a:pt x="18033" y="15371"/>
                  <a:pt x="18033" y="15354"/>
                </a:cubicBezTo>
                <a:cubicBezTo>
                  <a:pt x="18111" y="15480"/>
                  <a:pt x="18172" y="15620"/>
                  <a:pt x="18355" y="15602"/>
                </a:cubicBezTo>
                <a:cubicBezTo>
                  <a:pt x="18512" y="15586"/>
                  <a:pt x="18710" y="15460"/>
                  <a:pt x="18752" y="15304"/>
                </a:cubicBezTo>
                <a:cubicBezTo>
                  <a:pt x="18766" y="15253"/>
                  <a:pt x="18748" y="15060"/>
                  <a:pt x="18678" y="15180"/>
                </a:cubicBezTo>
                <a:cubicBezTo>
                  <a:pt x="18670" y="15205"/>
                  <a:pt x="18661" y="15230"/>
                  <a:pt x="18653" y="15255"/>
                </a:cubicBezTo>
                <a:cubicBezTo>
                  <a:pt x="18749" y="15191"/>
                  <a:pt x="18753" y="15093"/>
                  <a:pt x="18628" y="15230"/>
                </a:cubicBezTo>
                <a:cubicBezTo>
                  <a:pt x="18628" y="15238"/>
                  <a:pt x="18628" y="15247"/>
                  <a:pt x="18628" y="1525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40760" y="5340240"/>
            <a:ext cx="1347480" cy="463680"/>
          </a:xfrm>
          <a:custGeom>
            <a:avLst/>
            <a:gdLst/>
            <a:ahLst/>
            <a:rect l="l" t="t" r="r" b="b"/>
            <a:pathLst>
              <a:path w="3747" h="1291">
                <a:moveTo>
                  <a:pt x="20638" y="15404"/>
                </a:moveTo>
                <a:cubicBezTo>
                  <a:pt x="20740" y="15383"/>
                  <a:pt x="21089" y="15349"/>
                  <a:pt x="20935" y="15577"/>
                </a:cubicBezTo>
                <a:cubicBezTo>
                  <a:pt x="20801" y="15688"/>
                  <a:pt x="20770" y="15722"/>
                  <a:pt x="20662" y="15751"/>
                </a:cubicBezTo>
                <a:cubicBezTo>
                  <a:pt x="20912" y="15751"/>
                  <a:pt x="20936" y="15723"/>
                  <a:pt x="21059" y="15925"/>
                </a:cubicBezTo>
                <a:cubicBezTo>
                  <a:pt x="20793" y="16133"/>
                  <a:pt x="20688" y="16160"/>
                  <a:pt x="20389" y="15999"/>
                </a:cubicBezTo>
              </a:path>
              <a:path w="3747" h="1291">
                <a:moveTo>
                  <a:pt x="21233" y="15453"/>
                </a:moveTo>
                <a:cubicBezTo>
                  <a:pt x="21280" y="15264"/>
                  <a:pt x="21391" y="15265"/>
                  <a:pt x="21580" y="15255"/>
                </a:cubicBezTo>
                <a:cubicBezTo>
                  <a:pt x="21711" y="15248"/>
                  <a:pt x="21785" y="15226"/>
                  <a:pt x="21779" y="15429"/>
                </a:cubicBezTo>
                <a:cubicBezTo>
                  <a:pt x="21773" y="15611"/>
                  <a:pt x="21692" y="15819"/>
                  <a:pt x="21654" y="15999"/>
                </a:cubicBezTo>
              </a:path>
              <a:path w="3747" h="1291">
                <a:moveTo>
                  <a:pt x="22151" y="15850"/>
                </a:moveTo>
                <a:cubicBezTo>
                  <a:pt x="22151" y="15942"/>
                  <a:pt x="22132" y="15904"/>
                  <a:pt x="22225" y="15925"/>
                </a:cubicBezTo>
                <a:cubicBezTo>
                  <a:pt x="22225" y="15866"/>
                  <a:pt x="22216" y="15846"/>
                  <a:pt x="22151" y="15850"/>
                </a:cubicBezTo>
              </a:path>
              <a:path w="3747" h="1291">
                <a:moveTo>
                  <a:pt x="22721" y="15205"/>
                </a:moveTo>
                <a:cubicBezTo>
                  <a:pt x="22667" y="15225"/>
                  <a:pt x="22457" y="15253"/>
                  <a:pt x="22448" y="15329"/>
                </a:cubicBezTo>
                <a:cubicBezTo>
                  <a:pt x="22448" y="15453"/>
                  <a:pt x="22448" y="15478"/>
                  <a:pt x="22448" y="15553"/>
                </a:cubicBezTo>
                <a:cubicBezTo>
                  <a:pt x="22574" y="15546"/>
                  <a:pt x="22930" y="15467"/>
                  <a:pt x="22969" y="15677"/>
                </a:cubicBezTo>
                <a:cubicBezTo>
                  <a:pt x="23011" y="15907"/>
                  <a:pt x="22747" y="15918"/>
                  <a:pt x="22622" y="15949"/>
                </a:cubicBezTo>
              </a:path>
              <a:path w="3747" h="1291">
                <a:moveTo>
                  <a:pt x="23416" y="14957"/>
                </a:moveTo>
                <a:cubicBezTo>
                  <a:pt x="23226" y="15020"/>
                  <a:pt x="23193" y="15115"/>
                  <a:pt x="23316" y="15280"/>
                </a:cubicBezTo>
                <a:cubicBezTo>
                  <a:pt x="23548" y="15164"/>
                  <a:pt x="23562" y="15031"/>
                  <a:pt x="23267" y="14932"/>
                </a:cubicBezTo>
                <a:cubicBezTo>
                  <a:pt x="23234" y="14932"/>
                  <a:pt x="23201" y="14932"/>
                  <a:pt x="23168" y="14932"/>
                </a:cubicBezTo>
                <a:cubicBezTo>
                  <a:pt x="23365" y="14840"/>
                  <a:pt x="23732" y="14723"/>
                  <a:pt x="23862" y="15007"/>
                </a:cubicBezTo>
                <a:cubicBezTo>
                  <a:pt x="24003" y="15315"/>
                  <a:pt x="23759" y="15695"/>
                  <a:pt x="23589" y="15925"/>
                </a:cubicBezTo>
              </a:path>
              <a:path w="3747" h="1291">
                <a:moveTo>
                  <a:pt x="24036" y="15627"/>
                </a:moveTo>
                <a:cubicBezTo>
                  <a:pt x="23962" y="15700"/>
                  <a:pt x="23937" y="15724"/>
                  <a:pt x="23937" y="15801"/>
                </a:cubicBezTo>
                <a:cubicBezTo>
                  <a:pt x="24049" y="15835"/>
                  <a:pt x="24273" y="15726"/>
                  <a:pt x="24061" y="15627"/>
                </a:cubicBezTo>
                <a:cubicBezTo>
                  <a:pt x="24003" y="15619"/>
                  <a:pt x="23945" y="15610"/>
                  <a:pt x="23887" y="1560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convert fractions to decimals to percents and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old Italic"/>
              </a:rPr>
              <a:t>Quiz time</a:t>
            </a:r>
            <a:r>
              <a:rPr b="0" lang="en-US" sz="3200" spc="-1" strike="noStrike">
                <a:solidFill>
                  <a:srgbClr val="000000"/>
                </a:solidFill>
                <a:latin typeface="Arial Bold Italic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Homework To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test will be Thursday, October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23:17Z</dcterms:created>
  <dc:creator>Brian McGrath</dc:creator>
  <dc:description/>
  <dc:language>en-US</dc:language>
  <cp:lastModifiedBy>deanne elizabeth mcgrath</cp:lastModifiedBy>
  <dcterms:modified xsi:type="dcterms:W3CDTF">2010-10-21T17:41:44Z</dcterms:modified>
  <cp:revision>3</cp:revision>
  <dc:subject/>
  <dc:title>Objective:  Students will convert fractions to decimals to percents and vice versa. </dc:title>
</cp:coreProperties>
</file>